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4.jpeg" ContentType="image/jpeg"/>
  <Override PartName="/ppt/media/image19.wmf" ContentType="image/x-wmf"/>
  <Override PartName="/ppt/media/image18.jpeg" ContentType="image/jpeg"/>
  <Override PartName="/ppt/media/image6.wmf" ContentType="image/x-wmf"/>
  <Override PartName="/ppt/media/image16.png" ContentType="image/pn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comments/comment3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disasi" initials="d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<Relationship Id="rId52" Type="http://schemas.openxmlformats.org/officeDocument/2006/relationships/commentAuthors" Target="commentAuthors.xml"/>
</Relationships>
</file>

<file path=ppt/comments/comment32.xml><?xml version="1.0" encoding="utf-8"?>
<p:cmLst xmlns:p="http://schemas.openxmlformats.org/presentationml/2006/main">
  <p:cm authorId="0" dt="2004-08-31T20:14:57.244000000" idx="1">
    <p:pos x="5376" y="46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CA79-6AFB-461D-A86D-3E0F1B56CEA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7ECE-ACB0-40CC-A629-6F76C080212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EE.UU. representa un mercado equivalente a 170 veces el del Per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200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, EE.UU. fue el mayor exportador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de bienes y servicios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mundo al totaliz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006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1% del total mundial y el principal importador en el mundo al registr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52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4 mil 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% del total mund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Todas las exportaciones peruanas del año 2003 (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 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) equivalen escasamente a dos días y medio de todo lo que importa EE.UU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Para satisfacer el equivalente a un mes de importaciones de EE.UU., el Perú tendría que multiplicar sus exportaciones por un factor cercano a 11. Ese es el tamaño del mercado que se puede consolidar con un T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lombia empezará las negociaciones del TLC con EE.UU. en mayo de este año, mientras que el Perú aún tiene pendiente la fecha de inic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mplica menores costos en la importación de insum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Genera mejoras en la productividad y la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Fomenta la realización de reformas estructurales y la estabilidad de las reglas del ju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trae inversión directa extranj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(1993-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crecieron en 13.4% an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se triplicaron entre 1994 y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: US$ 51.83 mil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: US$ 160.8 mil mill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56A7-1E58-4968-91B3-405F3FE3AB3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6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N CAMBIO MEXICO SÍ HA APRENDIDO LA LECCION Y HA ADECUADO SU OFERTA A LA DEMANDA MUNDIAL POR MANUFACTURAS. ASI, EN EL 2001, MEXICO EXPORTABA APROXIMADAMENTE, PARA HABLAR DE CIFRAS GRUESAS, EL 90% DE SUS EXPORTACIONES EN BIENES MANUFACTURADOS Y YA VIMOS COMO SUS EXPORTACIONES HAN CRECIDO EN 790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el 2002 las exportaciones de manufacturas crecieron en 14.6% an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Índice de apertura económica*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0 = 28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8 = 31.4 dos años después de su ingreso al G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 = 42.9 ya antes de firmarse el NAFTA el índice de apertura de México había aumentado considerablemente (no se trata de un solo tratado, sino de toda una estrategia de apertur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 = 49.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* (X + M) / PB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(en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nversión extranjera dire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1993 fue US$ 4,389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1 fue US$ 26,204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2 fue US$ 14,623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2002: crecimiento anual de 14.3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4 y 2002: IED se cuadruplic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be destacar que la pobreza se redujo del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mo se puede ver, a partir de 1994 el desempleo ha presentado una tendencia decreci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ste se ajustó rápidamente tras la Crisis del Tequila y luego de 1998, llegó a los niveles más bajos desde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NAFTA también permitió un rápido ajuste de los salarios reales tras dicha cri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s exportaciones agroalimentarias de México a EE.UU. se han casi duplicado desde la firma del NAFTA (entre 1993 y el 2001 crecieron en 94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 producción de maíz no muestra relación con el arancel del NAFTA. Argumentos por ese lado no tienen sust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éxico enfrentó retos antes, durante y luego de las negociaci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Según el Banco Mundial, los beneficios no necesariamente llegan inmediatamente, pues dependen de políticas complementarias (la reforma inte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A110-9B35-41C6-9936-ED5679A35E7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Quiénes están realmente detrás de imágenes como las de la pantal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Paladines de la ecología, ONG, grupos antiglobalización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Y quién los financia?: ¿sectores ineficientes?, ¿proteccioni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n 1806, luego de que fracasa su intento para invadir Gran Bretaña cuando la flota Franco Española es aniquilada por Nelson en Trafalgar, Napoleón busca bloquear comercialmente a Gran Bretaña, con la intención de aislarla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del </a:t>
            </a: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ercado europeo y ahogarla económicamente. Esta política lo conduce a la guerra con Portugal y a la intervención de España en 1808. Más recientemente, en 1991 a raíz del conflicto del Golfo Pérsico, luego del ataque de Iraq a Kuwait, Estados Unidos castiga a esa nación con un bloqueo comercial y, aún hoy, Cuba es tal vez el ejemplo más cercano que tenemos del daño que puede el aislamiento comercial ocasionar a una n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8423-9590-47A2-94C8-D7D3AD05C6F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rtura Comercial: promover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Reducción significativa de aranceles y demás restri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rato no discriminatorio con empresas internacionales: atraer inver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ayores salarios en el sector exportador y también en el que compite con las import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C419-A77E-4DA2-B29A-D47A63C3312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EAF5-054B-4E85-A114-EA2A801AB42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75EC-FA59-41EA-84DF-3A96EA0B228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os que dicen que el Perú ha seguido una política liberal extrema, y que nos hemos abierto excesivamente a las importaciones no tienen idea de lo que sucede en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ctualmente nuestras importaciones de bienes y servicios como porcentaje del PBI (17.34%) son menores que las de Cuba (18.17%) y China (25.91%)… Chile tiene 32.1%, Tailandia, con quienes estamos negociando un TLC, 27.48% y los países de altos ingresos tienen en promedio 22.2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quí es donde se puede venir con el tema Irlanda y explicar la importancia de la apertura comercial (economías de escala, acceso a tecnología, no monopolios, etc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diapositivas 1 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Perú es una economía pequeña en el contexto mundial y únicamente podrá emplear a su población y elevar su nivel de vida y progresar si aprovecha sus recursos humanos y naturales, y se conecta con todo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experiencia reciente muestra que aún en países con territorios y poblaciones enormes, como la India y China, la creciente integración al mundo de estas economías ha resultado en tasas de crecimiento de su ingreso por habitante que superan largamente a las de todo el resto de países del mun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1366-169A-4FE8-8D67-73871FE1DEC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BA08-EAC4-42FD-90EB-D1AC1E8386F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u="sng">
                <a:solidFill>
                  <a:srgbClr val="000000"/>
                </a:solidFill>
                <a:uFillTx/>
                <a:latin typeface="Trebuchet MS"/>
              </a:rPr>
              <a:t>OBJETIVOS PLANTEADOS POR GOBIERN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OMC: Liberalizar Agricultura, Salud Pública, Profundizar Normas (Antidumping, Políticas de competenci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LC EE.UU. : Consolidar ATPDEA, plazo 200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LCA: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Consolidar ATPDEA, Mejorar Acceso con otros Países, Mejorar Normas de Comerci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ERCOSUR: Afianzar relaciones con el MERCO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N: Mercado Común Andin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C: Afianzar relaciones con el Asia Pacíf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o hay tiempo ni recursos para todo: establecer priorid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F404-17A8-4691-845A-6AF137662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9F10-2D55-453A-8DDD-3891FDDE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CFDC-429C-42B5-A690-DE69976A5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5780-5FAC-4C40-BD01-0026D2BB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C3FF-3A26-4D95-A1D1-E11F703F0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A6C7-ED8C-4067-BE77-6C755946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83F1-4D22-49F8-B0C4-80B46C69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7EC3-6738-4CDB-B2BA-8E0B92C0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BBB1-E38B-4BD6-8F2F-74CD31F9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F0ED-17F7-417C-AC90-E55A586E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1818-AC85-4347-AE97-2F4451A1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42D7-308B-4B7F-996A-559F4E2B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AC49-FDB5-4043-9867-E4DA9846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F815-FD8A-4E1E-A8FC-2C23E0FE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6AC3-633F-4C60-98E2-25DAAD50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DB11-05E0-42D3-9696-FDFE7A200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38CB-0014-4E8F-84B8-FC5650893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2F7D-4408-468A-888C-CAC50E64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30F7-CEB5-4FD6-A3CE-FD746AAE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303B-4EAF-4949-8AF8-608070DA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9E17-0354-4B87-B5AC-2E80815D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1BDF-FF25-42C3-9885-3C64F7B2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E8A2-5B1C-4677-9A54-16E0A380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D5D1-B303-4C7F-83ED-C3E5F94C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E87D-530F-4AC5-83F4-2ECE87482F9D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4366-DD69-4960-B423-4FFE527354B7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adir.org/nadir/initiativ/agp/free/cancun/action/images17.htm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29360" y="530532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42184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egociaciones comerciales: agen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03480" y="1676160"/>
            <a:ext cx="7331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arle prioridad adecuada a cada mercado: EE.UU., UE y As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l grado de apertura y estabilidad económica del Perú es mayor al de la región latinoamericana: velar que acuerdos acojan ese obje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98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e importacion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del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4556160"/>
            <a:ext cx="342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6568920"/>
            <a:ext cx="399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-152280" y="1752480"/>
            <a:ext cx="5410080" cy="2970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56390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219640" y="2589120"/>
            <a:ext cx="3463920" cy="3719160"/>
            <a:chOff x="5219640" y="2589120"/>
            <a:chExt cx="3463920" cy="3719160"/>
          </a:xfrm>
        </p:grpSpPr>
        <p:sp>
          <p:nvSpPr>
            <p:cNvPr id="237" name=""/>
            <p:cNvSpPr/>
            <p:nvPr/>
          </p:nvSpPr>
          <p:spPr>
            <a:xfrm>
              <a:off x="6483600" y="2765160"/>
              <a:ext cx="35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40600" y="276516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52600" y="2765160"/>
              <a:ext cx="63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. 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76160" y="294480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61760" y="3111480"/>
              <a:ext cx="29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552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348.0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236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,806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14240" y="3111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6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65360" y="3278160"/>
              <a:ext cx="70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radiciona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5552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321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9236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199.9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14240" y="32781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48800" y="3444840"/>
              <a:ext cx="43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54520" y="34448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93.3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2360" y="344484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512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14240" y="34448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2.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56360" y="361152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8664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.4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91000" y="36115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8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4412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4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83000" y="3778200"/>
              <a:ext cx="1096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tróleo y derivad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5452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4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9100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5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14240" y="3778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8.8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57800" y="3944880"/>
              <a:ext cx="49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ícol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040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0.6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91000" y="39448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3.3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1424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3.1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8520" y="4111560"/>
              <a:ext cx="74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5552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26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236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606.3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14240" y="4111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9.3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59600" y="4278240"/>
              <a:ext cx="727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opecuari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452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9100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16.1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14240" y="4278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2.1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56000" y="44449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exti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5452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15.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9100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7.2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14240" y="4444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3.1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53480" y="4611600"/>
              <a:ext cx="508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040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3.6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91000" y="46116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8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1424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.9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53120" y="477828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Quím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2040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2.3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91000" y="47782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12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1424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3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70040" y="4944960"/>
              <a:ext cx="851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etal-mecán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2040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4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5688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6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91424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81560" y="5110200"/>
              <a:ext cx="102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Sidero-metalúrg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2040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8.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91000" y="5110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0.9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1424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76160" y="5276880"/>
              <a:ext cx="105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ía no metáli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2040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0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5688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2.2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1424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5.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62480" y="544356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rtesaní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8664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2312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.2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14240" y="5443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76520" y="5610240"/>
              <a:ext cx="1003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deras y pape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2040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91000" y="5610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71.0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1424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6.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77600" y="5776920"/>
              <a:ext cx="78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ieles y c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86640" y="57769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5688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2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1424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6.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16480" y="5940360"/>
              <a:ext cx="1009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Varios (inc. Joyería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2040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4.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5688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5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1424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7.8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29800" y="6186240"/>
              <a:ext cx="199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Fuente: SUNAT</a:t>
              </a:r>
              <a:r>
                <a:rPr b="0" lang="es-MX" sz="800" spc="-1" strike="noStrike">
                  <a:solidFill>
                    <a:srgbClr val="ffffff"/>
                  </a:solidFill>
                  <a:latin typeface="Verdana"/>
                </a:rPr>
                <a:t>. </a:t>
              </a: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87920" y="2589120"/>
              <a:ext cx="2736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icipación de EE.UU. en las Exportaciones (2003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34000" y="2944800"/>
              <a:ext cx="928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millones de US$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19640" y="273672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46800" y="2913120"/>
              <a:ext cx="216828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19640" y="32526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19640" y="325260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19640" y="34192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19640" y="341928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19640" y="40860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87760" y="408600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19640" y="42526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87760" y="425268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19640" y="608796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116160" y="221292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4775400" cy="25434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24000" y="5848200"/>
            <a:ext cx="403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empezar por EE.UU.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55160" y="2276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E.UU. representa el 25% del PBI mundial y el 26.5% de las exportaciones peruanas en el 200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u población asciende a 288 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illone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 habitantes: 11 veces la población del Per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Un estadounidense posee un ingreso anual de US$ 35,400: 17 veces el peru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Perú apenas contribuyó con el 0.19% de las importaciones de EE.U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Las ventajas del TL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320" y="2050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Nos abre las puertas al mercado más grande del mun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Consolida preferencias del ATPDEA y abarcará todo el universo arancelario de manera vinculan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Implica menores costos en la importación de insumos y bienes de capital, lo que genera mejoras en la productividad y la competitivid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Fomenta la estabilidad de las reglas del jueg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trae inversión directa extranje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7632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¿Qué se negocia en un TLC 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6200" y="1981080"/>
            <a:ext cx="349272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cceso a mercancías </a:t>
            </a: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(Agricultu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Contratación públ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Políticas de compe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08240" y="1981080"/>
            <a:ext cx="34923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ntrada temporal de personas de nego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6668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547640" y="1967040"/>
            <a:ext cx="6769080" cy="4281480"/>
            <a:chOff x="1547640" y="1967040"/>
            <a:chExt cx="6769080" cy="4281480"/>
          </a:xfrm>
        </p:grpSpPr>
        <p:pic>
          <p:nvPicPr>
            <p:cNvPr id="339" name="" descr=""/>
            <p:cNvPicPr/>
            <p:nvPr/>
          </p:nvPicPr>
          <p:blipFill>
            <a:blip r:embed="rId1"/>
            <a:stretch/>
          </p:blipFill>
          <p:spPr>
            <a:xfrm>
              <a:off x="1547640" y="1967040"/>
              <a:ext cx="676908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563640" y="3329280"/>
              <a:ext cx="11239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icio del 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27280" y="3329280"/>
              <a:ext cx="10238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Crisis del Tequil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284360" y="3474720"/>
              <a:ext cx="2303640" cy="857160"/>
            </a:xfrm>
            <a:prstGeom prst="line">
              <a:avLst/>
            </a:prstGeom>
            <a:ln w="57240">
              <a:solidFill>
                <a:srgbClr val="c0c0c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2109240" y="6272280"/>
            <a:ext cx="365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Secretaría de Economía de México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908000" y="620640"/>
            <a:ext cx="6121440" cy="720720"/>
          </a:xfrm>
          <a:prstGeom prst="rect">
            <a:avLst/>
          </a:prstGeom>
          <a:solidFill>
            <a:srgbClr val="88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México: composición de las exportacion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90520" y="1501920"/>
            <a:ext cx="4262400" cy="2220120"/>
            <a:chOff x="290520" y="1501920"/>
            <a:chExt cx="4262400" cy="2220120"/>
          </a:xfrm>
        </p:grpSpPr>
        <p:sp>
          <p:nvSpPr>
            <p:cNvPr id="346" name=""/>
            <p:cNvSpPr/>
            <p:nvPr/>
          </p:nvSpPr>
          <p:spPr>
            <a:xfrm>
              <a:off x="3560760" y="2546280"/>
              <a:ext cx="101520" cy="511200"/>
            </a:xfrm>
            <a:custGeom>
              <a:avLst/>
              <a:gdLst/>
              <a:ahLst/>
              <a:rect l="l" t="t" r="r" b="b"/>
              <a:pathLst>
                <a:path w="64" h="322">
                  <a:moveTo>
                    <a:pt x="64" y="0"/>
                  </a:moveTo>
                  <a:lnTo>
                    <a:pt x="64" y="8"/>
                  </a:lnTo>
                  <a:lnTo>
                    <a:pt x="56" y="16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9"/>
                  </a:lnTo>
                  <a:lnTo>
                    <a:pt x="32" y="57"/>
                  </a:lnTo>
                  <a:lnTo>
                    <a:pt x="24" y="65"/>
                  </a:lnTo>
                  <a:lnTo>
                    <a:pt x="16" y="65"/>
                  </a:lnTo>
                  <a:lnTo>
                    <a:pt x="8" y="73"/>
                  </a:lnTo>
                  <a:lnTo>
                    <a:pt x="0" y="81"/>
                  </a:lnTo>
                  <a:lnTo>
                    <a:pt x="0" y="322"/>
                  </a:lnTo>
                  <a:lnTo>
                    <a:pt x="8" y="314"/>
                  </a:lnTo>
                  <a:lnTo>
                    <a:pt x="16" y="306"/>
                  </a:lnTo>
                  <a:lnTo>
                    <a:pt x="24" y="306"/>
                  </a:lnTo>
                  <a:lnTo>
                    <a:pt x="32" y="298"/>
                  </a:lnTo>
                  <a:lnTo>
                    <a:pt x="40" y="290"/>
                  </a:lnTo>
                  <a:lnTo>
                    <a:pt x="48" y="282"/>
                  </a:lnTo>
                  <a:lnTo>
                    <a:pt x="48" y="274"/>
                  </a:lnTo>
                  <a:lnTo>
                    <a:pt x="56" y="265"/>
                  </a:lnTo>
                  <a:lnTo>
                    <a:pt x="56" y="265"/>
                  </a:lnTo>
                  <a:lnTo>
                    <a:pt x="56" y="257"/>
                  </a:lnTo>
                  <a:lnTo>
                    <a:pt x="64" y="249"/>
                  </a:lnTo>
                  <a:lnTo>
                    <a:pt x="64" y="24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82760" y="2546280"/>
              <a:ext cx="1278000" cy="511200"/>
            </a:xfrm>
            <a:custGeom>
              <a:avLst/>
              <a:gdLst/>
              <a:ahLst/>
              <a:rect l="l" t="t" r="r" b="b"/>
              <a:pathLst>
                <a:path w="805" h="322">
                  <a:moveTo>
                    <a:pt x="0" y="0"/>
                  </a:moveTo>
                  <a:lnTo>
                    <a:pt x="805" y="81"/>
                  </a:lnTo>
                  <a:lnTo>
                    <a:pt x="805" y="322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82760" y="2189160"/>
              <a:ext cx="1379520" cy="485640"/>
            </a:xfrm>
            <a:custGeom>
              <a:avLst/>
              <a:gdLst/>
              <a:ahLst/>
              <a:rect l="l" t="t" r="r" b="b"/>
              <a:pathLst>
                <a:path w="869" h="306">
                  <a:moveTo>
                    <a:pt x="0" y="0"/>
                  </a:moveTo>
                  <a:lnTo>
                    <a:pt x="32" y="0"/>
                  </a:lnTo>
                  <a:lnTo>
                    <a:pt x="73" y="0"/>
                  </a:lnTo>
                  <a:lnTo>
                    <a:pt x="105" y="0"/>
                  </a:lnTo>
                  <a:lnTo>
                    <a:pt x="137" y="0"/>
                  </a:lnTo>
                  <a:lnTo>
                    <a:pt x="177" y="0"/>
                  </a:lnTo>
                  <a:lnTo>
                    <a:pt x="209" y="8"/>
                  </a:lnTo>
                  <a:lnTo>
                    <a:pt x="242" y="8"/>
                  </a:lnTo>
                  <a:lnTo>
                    <a:pt x="282" y="8"/>
                  </a:lnTo>
                  <a:lnTo>
                    <a:pt x="306" y="16"/>
                  </a:lnTo>
                  <a:lnTo>
                    <a:pt x="338" y="16"/>
                  </a:lnTo>
                  <a:lnTo>
                    <a:pt x="378" y="25"/>
                  </a:lnTo>
                  <a:lnTo>
                    <a:pt x="403" y="25"/>
                  </a:lnTo>
                  <a:lnTo>
                    <a:pt x="435" y="33"/>
                  </a:lnTo>
                  <a:lnTo>
                    <a:pt x="475" y="33"/>
                  </a:lnTo>
                  <a:lnTo>
                    <a:pt x="499" y="41"/>
                  </a:lnTo>
                  <a:lnTo>
                    <a:pt x="523" y="41"/>
                  </a:lnTo>
                  <a:lnTo>
                    <a:pt x="555" y="49"/>
                  </a:lnTo>
                  <a:lnTo>
                    <a:pt x="580" y="57"/>
                  </a:lnTo>
                  <a:lnTo>
                    <a:pt x="604" y="65"/>
                  </a:lnTo>
                  <a:lnTo>
                    <a:pt x="636" y="73"/>
                  </a:lnTo>
                  <a:lnTo>
                    <a:pt x="652" y="73"/>
                  </a:lnTo>
                  <a:lnTo>
                    <a:pt x="676" y="81"/>
                  </a:lnTo>
                  <a:lnTo>
                    <a:pt x="700" y="89"/>
                  </a:lnTo>
                  <a:lnTo>
                    <a:pt x="716" y="97"/>
                  </a:lnTo>
                  <a:lnTo>
                    <a:pt x="732" y="105"/>
                  </a:lnTo>
                  <a:lnTo>
                    <a:pt x="757" y="113"/>
                  </a:lnTo>
                  <a:lnTo>
                    <a:pt x="773" y="121"/>
                  </a:lnTo>
                  <a:lnTo>
                    <a:pt x="789" y="129"/>
                  </a:lnTo>
                  <a:lnTo>
                    <a:pt x="805" y="137"/>
                  </a:lnTo>
                  <a:lnTo>
                    <a:pt x="813" y="145"/>
                  </a:lnTo>
                  <a:lnTo>
                    <a:pt x="821" y="153"/>
                  </a:lnTo>
                  <a:lnTo>
                    <a:pt x="837" y="169"/>
                  </a:lnTo>
                  <a:lnTo>
                    <a:pt x="845" y="169"/>
                  </a:lnTo>
                  <a:lnTo>
                    <a:pt x="853" y="177"/>
                  </a:lnTo>
                  <a:lnTo>
                    <a:pt x="861" y="193"/>
                  </a:lnTo>
                  <a:lnTo>
                    <a:pt x="861" y="201"/>
                  </a:lnTo>
                  <a:lnTo>
                    <a:pt x="861" y="209"/>
                  </a:lnTo>
                  <a:lnTo>
                    <a:pt x="869" y="217"/>
                  </a:lnTo>
                  <a:lnTo>
                    <a:pt x="869" y="225"/>
                  </a:lnTo>
                  <a:lnTo>
                    <a:pt x="869" y="233"/>
                  </a:lnTo>
                  <a:lnTo>
                    <a:pt x="861" y="249"/>
                  </a:lnTo>
                  <a:lnTo>
                    <a:pt x="861" y="258"/>
                  </a:lnTo>
                  <a:lnTo>
                    <a:pt x="853" y="266"/>
                  </a:lnTo>
                  <a:lnTo>
                    <a:pt x="845" y="274"/>
                  </a:lnTo>
                  <a:lnTo>
                    <a:pt x="837" y="282"/>
                  </a:lnTo>
                  <a:lnTo>
                    <a:pt x="829" y="290"/>
                  </a:lnTo>
                  <a:lnTo>
                    <a:pt x="813" y="298"/>
                  </a:lnTo>
                  <a:lnTo>
                    <a:pt x="805" y="306"/>
                  </a:ln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64040" y="2776680"/>
              <a:ext cx="396720" cy="522000"/>
            </a:xfrm>
            <a:custGeom>
              <a:avLst/>
              <a:gdLst/>
              <a:ahLst/>
              <a:rect l="l" t="t" r="r" b="b"/>
              <a:pathLst>
                <a:path w="250" h="329">
                  <a:moveTo>
                    <a:pt x="250" y="0"/>
                  </a:moveTo>
                  <a:lnTo>
                    <a:pt x="234" y="8"/>
                  </a:lnTo>
                  <a:lnTo>
                    <a:pt x="218" y="16"/>
                  </a:lnTo>
                  <a:lnTo>
                    <a:pt x="202" y="24"/>
                  </a:lnTo>
                  <a:lnTo>
                    <a:pt x="185" y="32"/>
                  </a:lnTo>
                  <a:lnTo>
                    <a:pt x="161" y="40"/>
                  </a:lnTo>
                  <a:lnTo>
                    <a:pt x="145" y="48"/>
                  </a:lnTo>
                  <a:lnTo>
                    <a:pt x="129" y="56"/>
                  </a:lnTo>
                  <a:lnTo>
                    <a:pt x="97" y="64"/>
                  </a:lnTo>
                  <a:lnTo>
                    <a:pt x="81" y="72"/>
                  </a:lnTo>
                  <a:lnTo>
                    <a:pt x="57" y="80"/>
                  </a:lnTo>
                  <a:lnTo>
                    <a:pt x="25" y="88"/>
                  </a:lnTo>
                  <a:lnTo>
                    <a:pt x="0" y="88"/>
                  </a:lnTo>
                  <a:lnTo>
                    <a:pt x="0" y="329"/>
                  </a:lnTo>
                  <a:lnTo>
                    <a:pt x="25" y="329"/>
                  </a:lnTo>
                  <a:lnTo>
                    <a:pt x="57" y="321"/>
                  </a:lnTo>
                  <a:lnTo>
                    <a:pt x="81" y="313"/>
                  </a:lnTo>
                  <a:lnTo>
                    <a:pt x="97" y="305"/>
                  </a:lnTo>
                  <a:lnTo>
                    <a:pt x="129" y="297"/>
                  </a:lnTo>
                  <a:lnTo>
                    <a:pt x="145" y="289"/>
                  </a:lnTo>
                  <a:lnTo>
                    <a:pt x="161" y="281"/>
                  </a:lnTo>
                  <a:lnTo>
                    <a:pt x="185" y="273"/>
                  </a:lnTo>
                  <a:lnTo>
                    <a:pt x="202" y="265"/>
                  </a:lnTo>
                  <a:lnTo>
                    <a:pt x="218" y="257"/>
                  </a:lnTo>
                  <a:lnTo>
                    <a:pt x="234" y="249"/>
                  </a:lnTo>
                  <a:lnTo>
                    <a:pt x="250" y="241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82760" y="2649600"/>
              <a:ext cx="881280" cy="649080"/>
            </a:xfrm>
            <a:custGeom>
              <a:avLst/>
              <a:gdLst/>
              <a:ahLst/>
              <a:rect l="l" t="t" r="r" b="b"/>
              <a:pathLst>
                <a:path w="555" h="409">
                  <a:moveTo>
                    <a:pt x="0" y="0"/>
                  </a:moveTo>
                  <a:lnTo>
                    <a:pt x="555" y="168"/>
                  </a:lnTo>
                  <a:lnTo>
                    <a:pt x="555" y="409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82760" y="2649600"/>
              <a:ext cx="1278000" cy="266760"/>
            </a:xfrm>
            <a:custGeom>
              <a:avLst/>
              <a:gdLst/>
              <a:ahLst/>
              <a:rect l="l" t="t" r="r" b="b"/>
              <a:pathLst>
                <a:path w="805" h="168">
                  <a:moveTo>
                    <a:pt x="805" y="80"/>
                  </a:moveTo>
                  <a:lnTo>
                    <a:pt x="789" y="88"/>
                  </a:lnTo>
                  <a:lnTo>
                    <a:pt x="773" y="96"/>
                  </a:lnTo>
                  <a:lnTo>
                    <a:pt x="757" y="104"/>
                  </a:lnTo>
                  <a:lnTo>
                    <a:pt x="740" y="112"/>
                  </a:lnTo>
                  <a:lnTo>
                    <a:pt x="716" y="120"/>
                  </a:lnTo>
                  <a:lnTo>
                    <a:pt x="700" y="128"/>
                  </a:lnTo>
                  <a:lnTo>
                    <a:pt x="684" y="136"/>
                  </a:lnTo>
                  <a:lnTo>
                    <a:pt x="652" y="144"/>
                  </a:lnTo>
                  <a:lnTo>
                    <a:pt x="636" y="152"/>
                  </a:lnTo>
                  <a:lnTo>
                    <a:pt x="612" y="160"/>
                  </a:lnTo>
                  <a:lnTo>
                    <a:pt x="580" y="168"/>
                  </a:lnTo>
                  <a:lnTo>
                    <a:pt x="555" y="168"/>
                  </a:lnTo>
                  <a:lnTo>
                    <a:pt x="0" y="0"/>
                  </a:lnTo>
                  <a:lnTo>
                    <a:pt x="805" y="80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57320" y="2941560"/>
              <a:ext cx="217800" cy="422280"/>
            </a:xfrm>
            <a:custGeom>
              <a:avLst/>
              <a:gdLst/>
              <a:ahLst/>
              <a:rect l="l" t="t" r="r" b="b"/>
              <a:pathLst>
                <a:path w="137" h="266">
                  <a:moveTo>
                    <a:pt x="137" y="0"/>
                  </a:moveTo>
                  <a:lnTo>
                    <a:pt x="113" y="8"/>
                  </a:lnTo>
                  <a:lnTo>
                    <a:pt x="89" y="8"/>
                  </a:lnTo>
                  <a:lnTo>
                    <a:pt x="65" y="16"/>
                  </a:lnTo>
                  <a:lnTo>
                    <a:pt x="57" y="16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266"/>
                  </a:lnTo>
                  <a:lnTo>
                    <a:pt x="24" y="266"/>
                  </a:lnTo>
                  <a:lnTo>
                    <a:pt x="57" y="258"/>
                  </a:lnTo>
                  <a:lnTo>
                    <a:pt x="65" y="258"/>
                  </a:lnTo>
                  <a:lnTo>
                    <a:pt x="89" y="249"/>
                  </a:lnTo>
                  <a:lnTo>
                    <a:pt x="113" y="249"/>
                  </a:lnTo>
                  <a:lnTo>
                    <a:pt x="137" y="24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93840" y="2674800"/>
              <a:ext cx="663480" cy="689040"/>
            </a:xfrm>
            <a:custGeom>
              <a:avLst/>
              <a:gdLst/>
              <a:ahLst/>
              <a:rect l="l" t="t" r="r" b="b"/>
              <a:pathLst>
                <a:path w="418" h="434">
                  <a:moveTo>
                    <a:pt x="0" y="0"/>
                  </a:moveTo>
                  <a:lnTo>
                    <a:pt x="418" y="193"/>
                  </a:lnTo>
                  <a:lnTo>
                    <a:pt x="418" y="434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93840" y="2674800"/>
              <a:ext cx="881280" cy="306360"/>
            </a:xfrm>
            <a:custGeom>
              <a:avLst/>
              <a:gdLst/>
              <a:ahLst/>
              <a:rect l="l" t="t" r="r" b="b"/>
              <a:pathLst>
                <a:path w="555" h="193">
                  <a:moveTo>
                    <a:pt x="555" y="168"/>
                  </a:moveTo>
                  <a:lnTo>
                    <a:pt x="531" y="176"/>
                  </a:lnTo>
                  <a:lnTo>
                    <a:pt x="507" y="176"/>
                  </a:lnTo>
                  <a:lnTo>
                    <a:pt x="483" y="184"/>
                  </a:lnTo>
                  <a:lnTo>
                    <a:pt x="475" y="184"/>
                  </a:lnTo>
                  <a:lnTo>
                    <a:pt x="442" y="193"/>
                  </a:lnTo>
                  <a:lnTo>
                    <a:pt x="418" y="193"/>
                  </a:lnTo>
                  <a:lnTo>
                    <a:pt x="0" y="0"/>
                  </a:lnTo>
                  <a:lnTo>
                    <a:pt x="555" y="168"/>
                  </a:lnTo>
                  <a:close/>
                </a:path>
              </a:pathLst>
            </a:custGeom>
            <a:solidFill>
              <a:srgbClr val="666699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0520" y="2624040"/>
              <a:ext cx="2043000" cy="739800"/>
            </a:xfrm>
            <a:custGeom>
              <a:avLst/>
              <a:gdLst/>
              <a:ahLst/>
              <a:rect l="l" t="t" r="r" b="b"/>
              <a:pathLst>
                <a:path w="1287" h="466">
                  <a:moveTo>
                    <a:pt x="1287" y="192"/>
                  </a:moveTo>
                  <a:lnTo>
                    <a:pt x="1263" y="200"/>
                  </a:lnTo>
                  <a:lnTo>
                    <a:pt x="1223" y="200"/>
                  </a:lnTo>
                  <a:lnTo>
                    <a:pt x="1191" y="208"/>
                  </a:lnTo>
                  <a:lnTo>
                    <a:pt x="1167" y="208"/>
                  </a:lnTo>
                  <a:lnTo>
                    <a:pt x="1118" y="216"/>
                  </a:lnTo>
                  <a:lnTo>
                    <a:pt x="1094" y="216"/>
                  </a:lnTo>
                  <a:lnTo>
                    <a:pt x="1062" y="216"/>
                  </a:lnTo>
                  <a:lnTo>
                    <a:pt x="1022" y="216"/>
                  </a:lnTo>
                  <a:lnTo>
                    <a:pt x="990" y="216"/>
                  </a:lnTo>
                  <a:lnTo>
                    <a:pt x="957" y="225"/>
                  </a:lnTo>
                  <a:lnTo>
                    <a:pt x="909" y="225"/>
                  </a:lnTo>
                  <a:lnTo>
                    <a:pt x="885" y="225"/>
                  </a:lnTo>
                  <a:lnTo>
                    <a:pt x="853" y="225"/>
                  </a:lnTo>
                  <a:lnTo>
                    <a:pt x="805" y="225"/>
                  </a:lnTo>
                  <a:lnTo>
                    <a:pt x="772" y="225"/>
                  </a:lnTo>
                  <a:lnTo>
                    <a:pt x="748" y="216"/>
                  </a:lnTo>
                  <a:lnTo>
                    <a:pt x="700" y="216"/>
                  </a:lnTo>
                  <a:lnTo>
                    <a:pt x="668" y="216"/>
                  </a:lnTo>
                  <a:lnTo>
                    <a:pt x="644" y="216"/>
                  </a:lnTo>
                  <a:lnTo>
                    <a:pt x="595" y="208"/>
                  </a:lnTo>
                  <a:lnTo>
                    <a:pt x="571" y="208"/>
                  </a:lnTo>
                  <a:lnTo>
                    <a:pt x="539" y="208"/>
                  </a:lnTo>
                  <a:lnTo>
                    <a:pt x="499" y="200"/>
                  </a:lnTo>
                  <a:lnTo>
                    <a:pt x="475" y="200"/>
                  </a:lnTo>
                  <a:lnTo>
                    <a:pt x="442" y="192"/>
                  </a:lnTo>
                  <a:lnTo>
                    <a:pt x="410" y="184"/>
                  </a:lnTo>
                  <a:lnTo>
                    <a:pt x="378" y="184"/>
                  </a:lnTo>
                  <a:lnTo>
                    <a:pt x="354" y="176"/>
                  </a:lnTo>
                  <a:lnTo>
                    <a:pt x="322" y="176"/>
                  </a:lnTo>
                  <a:lnTo>
                    <a:pt x="298" y="168"/>
                  </a:lnTo>
                  <a:lnTo>
                    <a:pt x="274" y="160"/>
                  </a:lnTo>
                  <a:lnTo>
                    <a:pt x="241" y="152"/>
                  </a:lnTo>
                  <a:lnTo>
                    <a:pt x="217" y="144"/>
                  </a:lnTo>
                  <a:lnTo>
                    <a:pt x="201" y="144"/>
                  </a:lnTo>
                  <a:lnTo>
                    <a:pt x="169" y="136"/>
                  </a:lnTo>
                  <a:lnTo>
                    <a:pt x="153" y="128"/>
                  </a:lnTo>
                  <a:lnTo>
                    <a:pt x="137" y="120"/>
                  </a:lnTo>
                  <a:lnTo>
                    <a:pt x="113" y="112"/>
                  </a:lnTo>
                  <a:lnTo>
                    <a:pt x="96" y="104"/>
                  </a:lnTo>
                  <a:lnTo>
                    <a:pt x="88" y="96"/>
                  </a:lnTo>
                  <a:lnTo>
                    <a:pt x="64" y="88"/>
                  </a:lnTo>
                  <a:lnTo>
                    <a:pt x="56" y="80"/>
                  </a:lnTo>
                  <a:lnTo>
                    <a:pt x="48" y="72"/>
                  </a:lnTo>
                  <a:lnTo>
                    <a:pt x="32" y="56"/>
                  </a:lnTo>
                  <a:lnTo>
                    <a:pt x="24" y="56"/>
                  </a:lnTo>
                  <a:lnTo>
                    <a:pt x="16" y="48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0" y="249"/>
                  </a:lnTo>
                  <a:lnTo>
                    <a:pt x="0" y="257"/>
                  </a:lnTo>
                  <a:lnTo>
                    <a:pt x="8" y="265"/>
                  </a:lnTo>
                  <a:lnTo>
                    <a:pt x="8" y="273"/>
                  </a:lnTo>
                  <a:lnTo>
                    <a:pt x="16" y="289"/>
                  </a:lnTo>
                  <a:lnTo>
                    <a:pt x="24" y="297"/>
                  </a:lnTo>
                  <a:lnTo>
                    <a:pt x="32" y="297"/>
                  </a:lnTo>
                  <a:lnTo>
                    <a:pt x="48" y="313"/>
                  </a:lnTo>
                  <a:lnTo>
                    <a:pt x="56" y="321"/>
                  </a:lnTo>
                  <a:lnTo>
                    <a:pt x="64" y="329"/>
                  </a:lnTo>
                  <a:lnTo>
                    <a:pt x="88" y="337"/>
                  </a:lnTo>
                  <a:lnTo>
                    <a:pt x="96" y="345"/>
                  </a:lnTo>
                  <a:lnTo>
                    <a:pt x="113" y="353"/>
                  </a:lnTo>
                  <a:lnTo>
                    <a:pt x="137" y="361"/>
                  </a:lnTo>
                  <a:lnTo>
                    <a:pt x="153" y="369"/>
                  </a:lnTo>
                  <a:lnTo>
                    <a:pt x="169" y="377"/>
                  </a:lnTo>
                  <a:lnTo>
                    <a:pt x="201" y="385"/>
                  </a:lnTo>
                  <a:lnTo>
                    <a:pt x="217" y="385"/>
                  </a:lnTo>
                  <a:lnTo>
                    <a:pt x="241" y="393"/>
                  </a:lnTo>
                  <a:lnTo>
                    <a:pt x="274" y="401"/>
                  </a:lnTo>
                  <a:lnTo>
                    <a:pt x="298" y="409"/>
                  </a:lnTo>
                  <a:lnTo>
                    <a:pt x="322" y="417"/>
                  </a:lnTo>
                  <a:lnTo>
                    <a:pt x="354" y="417"/>
                  </a:lnTo>
                  <a:lnTo>
                    <a:pt x="378" y="425"/>
                  </a:lnTo>
                  <a:lnTo>
                    <a:pt x="410" y="425"/>
                  </a:lnTo>
                  <a:lnTo>
                    <a:pt x="442" y="433"/>
                  </a:lnTo>
                  <a:lnTo>
                    <a:pt x="475" y="441"/>
                  </a:lnTo>
                  <a:lnTo>
                    <a:pt x="499" y="441"/>
                  </a:lnTo>
                  <a:lnTo>
                    <a:pt x="539" y="449"/>
                  </a:lnTo>
                  <a:lnTo>
                    <a:pt x="571" y="449"/>
                  </a:lnTo>
                  <a:lnTo>
                    <a:pt x="595" y="449"/>
                  </a:lnTo>
                  <a:lnTo>
                    <a:pt x="644" y="458"/>
                  </a:lnTo>
                  <a:lnTo>
                    <a:pt x="668" y="458"/>
                  </a:lnTo>
                  <a:lnTo>
                    <a:pt x="700" y="458"/>
                  </a:lnTo>
                  <a:lnTo>
                    <a:pt x="748" y="458"/>
                  </a:lnTo>
                  <a:lnTo>
                    <a:pt x="772" y="466"/>
                  </a:lnTo>
                  <a:lnTo>
                    <a:pt x="805" y="466"/>
                  </a:lnTo>
                  <a:lnTo>
                    <a:pt x="853" y="466"/>
                  </a:lnTo>
                  <a:lnTo>
                    <a:pt x="885" y="466"/>
                  </a:lnTo>
                  <a:lnTo>
                    <a:pt x="909" y="466"/>
                  </a:lnTo>
                  <a:lnTo>
                    <a:pt x="957" y="466"/>
                  </a:lnTo>
                  <a:lnTo>
                    <a:pt x="990" y="458"/>
                  </a:lnTo>
                  <a:lnTo>
                    <a:pt x="1022" y="458"/>
                  </a:lnTo>
                  <a:lnTo>
                    <a:pt x="1062" y="458"/>
                  </a:lnTo>
                  <a:lnTo>
                    <a:pt x="1094" y="458"/>
                  </a:lnTo>
                  <a:lnTo>
                    <a:pt x="1118" y="458"/>
                  </a:lnTo>
                  <a:lnTo>
                    <a:pt x="1167" y="449"/>
                  </a:lnTo>
                  <a:lnTo>
                    <a:pt x="1191" y="449"/>
                  </a:lnTo>
                  <a:lnTo>
                    <a:pt x="1223" y="441"/>
                  </a:lnTo>
                  <a:lnTo>
                    <a:pt x="1263" y="441"/>
                  </a:lnTo>
                  <a:lnTo>
                    <a:pt x="1287" y="433"/>
                  </a:lnTo>
                  <a:lnTo>
                    <a:pt x="1287" y="192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0520" y="2266920"/>
              <a:ext cx="2043000" cy="714240"/>
            </a:xfrm>
            <a:custGeom>
              <a:avLst/>
              <a:gdLst/>
              <a:ahLst/>
              <a:rect l="l" t="t" r="r" b="b"/>
              <a:pathLst>
                <a:path w="1287" h="450">
                  <a:moveTo>
                    <a:pt x="1287" y="417"/>
                  </a:moveTo>
                  <a:lnTo>
                    <a:pt x="1263" y="425"/>
                  </a:lnTo>
                  <a:lnTo>
                    <a:pt x="1223" y="425"/>
                  </a:lnTo>
                  <a:lnTo>
                    <a:pt x="1191" y="433"/>
                  </a:lnTo>
                  <a:lnTo>
                    <a:pt x="1167" y="433"/>
                  </a:lnTo>
                  <a:lnTo>
                    <a:pt x="1118" y="441"/>
                  </a:lnTo>
                  <a:lnTo>
                    <a:pt x="1094" y="441"/>
                  </a:lnTo>
                  <a:lnTo>
                    <a:pt x="1062" y="441"/>
                  </a:lnTo>
                  <a:lnTo>
                    <a:pt x="1022" y="441"/>
                  </a:lnTo>
                  <a:lnTo>
                    <a:pt x="990" y="441"/>
                  </a:lnTo>
                  <a:lnTo>
                    <a:pt x="957" y="450"/>
                  </a:lnTo>
                  <a:lnTo>
                    <a:pt x="909" y="450"/>
                  </a:lnTo>
                  <a:lnTo>
                    <a:pt x="885" y="450"/>
                  </a:lnTo>
                  <a:lnTo>
                    <a:pt x="853" y="450"/>
                  </a:lnTo>
                  <a:lnTo>
                    <a:pt x="805" y="450"/>
                  </a:lnTo>
                  <a:lnTo>
                    <a:pt x="772" y="450"/>
                  </a:lnTo>
                  <a:lnTo>
                    <a:pt x="748" y="441"/>
                  </a:lnTo>
                  <a:lnTo>
                    <a:pt x="716" y="441"/>
                  </a:lnTo>
                  <a:lnTo>
                    <a:pt x="668" y="441"/>
                  </a:lnTo>
                  <a:lnTo>
                    <a:pt x="644" y="441"/>
                  </a:lnTo>
                  <a:lnTo>
                    <a:pt x="611" y="441"/>
                  </a:lnTo>
                  <a:lnTo>
                    <a:pt x="571" y="433"/>
                  </a:lnTo>
                  <a:lnTo>
                    <a:pt x="539" y="433"/>
                  </a:lnTo>
                  <a:lnTo>
                    <a:pt x="515" y="425"/>
                  </a:lnTo>
                  <a:lnTo>
                    <a:pt x="475" y="425"/>
                  </a:lnTo>
                  <a:lnTo>
                    <a:pt x="442" y="417"/>
                  </a:lnTo>
                  <a:lnTo>
                    <a:pt x="418" y="417"/>
                  </a:lnTo>
                  <a:lnTo>
                    <a:pt x="378" y="409"/>
                  </a:lnTo>
                  <a:lnTo>
                    <a:pt x="354" y="401"/>
                  </a:lnTo>
                  <a:lnTo>
                    <a:pt x="330" y="401"/>
                  </a:lnTo>
                  <a:lnTo>
                    <a:pt x="298" y="393"/>
                  </a:lnTo>
                  <a:lnTo>
                    <a:pt x="274" y="385"/>
                  </a:lnTo>
                  <a:lnTo>
                    <a:pt x="249" y="385"/>
                  </a:lnTo>
                  <a:lnTo>
                    <a:pt x="217" y="369"/>
                  </a:lnTo>
                  <a:lnTo>
                    <a:pt x="201" y="369"/>
                  </a:lnTo>
                  <a:lnTo>
                    <a:pt x="185" y="361"/>
                  </a:lnTo>
                  <a:lnTo>
                    <a:pt x="153" y="353"/>
                  </a:lnTo>
                  <a:lnTo>
                    <a:pt x="137" y="345"/>
                  </a:lnTo>
                  <a:lnTo>
                    <a:pt x="121" y="337"/>
                  </a:lnTo>
                  <a:lnTo>
                    <a:pt x="96" y="329"/>
                  </a:lnTo>
                  <a:lnTo>
                    <a:pt x="88" y="321"/>
                  </a:lnTo>
                  <a:lnTo>
                    <a:pt x="72" y="313"/>
                  </a:lnTo>
                  <a:lnTo>
                    <a:pt x="56" y="305"/>
                  </a:lnTo>
                  <a:lnTo>
                    <a:pt x="48" y="297"/>
                  </a:lnTo>
                  <a:lnTo>
                    <a:pt x="32" y="289"/>
                  </a:lnTo>
                  <a:lnTo>
                    <a:pt x="24" y="281"/>
                  </a:lnTo>
                  <a:lnTo>
                    <a:pt x="16" y="273"/>
                  </a:lnTo>
                  <a:lnTo>
                    <a:pt x="8" y="265"/>
                  </a:lnTo>
                  <a:lnTo>
                    <a:pt x="8" y="257"/>
                  </a:lnTo>
                  <a:lnTo>
                    <a:pt x="0" y="241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0" y="217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184"/>
                  </a:lnTo>
                  <a:lnTo>
                    <a:pt x="16" y="176"/>
                  </a:lnTo>
                  <a:lnTo>
                    <a:pt x="24" y="168"/>
                  </a:lnTo>
                  <a:lnTo>
                    <a:pt x="32" y="160"/>
                  </a:lnTo>
                  <a:lnTo>
                    <a:pt x="40" y="152"/>
                  </a:lnTo>
                  <a:lnTo>
                    <a:pt x="48" y="144"/>
                  </a:lnTo>
                  <a:lnTo>
                    <a:pt x="64" y="136"/>
                  </a:lnTo>
                  <a:lnTo>
                    <a:pt x="80" y="128"/>
                  </a:lnTo>
                  <a:lnTo>
                    <a:pt x="96" y="120"/>
                  </a:lnTo>
                  <a:lnTo>
                    <a:pt x="113" y="112"/>
                  </a:lnTo>
                  <a:lnTo>
                    <a:pt x="129" y="104"/>
                  </a:lnTo>
                  <a:lnTo>
                    <a:pt x="145" y="96"/>
                  </a:lnTo>
                  <a:lnTo>
                    <a:pt x="169" y="88"/>
                  </a:lnTo>
                  <a:lnTo>
                    <a:pt x="193" y="80"/>
                  </a:lnTo>
                  <a:lnTo>
                    <a:pt x="209" y="72"/>
                  </a:lnTo>
                  <a:lnTo>
                    <a:pt x="241" y="64"/>
                  </a:lnTo>
                  <a:lnTo>
                    <a:pt x="265" y="64"/>
                  </a:lnTo>
                  <a:lnTo>
                    <a:pt x="282" y="56"/>
                  </a:lnTo>
                  <a:lnTo>
                    <a:pt x="322" y="48"/>
                  </a:lnTo>
                  <a:lnTo>
                    <a:pt x="346" y="40"/>
                  </a:lnTo>
                  <a:lnTo>
                    <a:pt x="370" y="40"/>
                  </a:lnTo>
                  <a:lnTo>
                    <a:pt x="394" y="32"/>
                  </a:lnTo>
                  <a:lnTo>
                    <a:pt x="434" y="32"/>
                  </a:lnTo>
                  <a:lnTo>
                    <a:pt x="459" y="24"/>
                  </a:lnTo>
                  <a:lnTo>
                    <a:pt x="483" y="24"/>
                  </a:lnTo>
                  <a:lnTo>
                    <a:pt x="531" y="16"/>
                  </a:lnTo>
                  <a:lnTo>
                    <a:pt x="555" y="16"/>
                  </a:lnTo>
                  <a:lnTo>
                    <a:pt x="587" y="8"/>
                  </a:lnTo>
                  <a:lnTo>
                    <a:pt x="628" y="8"/>
                  </a:lnTo>
                  <a:lnTo>
                    <a:pt x="660" y="8"/>
                  </a:lnTo>
                  <a:lnTo>
                    <a:pt x="684" y="0"/>
                  </a:lnTo>
                  <a:lnTo>
                    <a:pt x="732" y="0"/>
                  </a:lnTo>
                  <a:lnTo>
                    <a:pt x="764" y="0"/>
                  </a:lnTo>
                  <a:lnTo>
                    <a:pt x="788" y="0"/>
                  </a:lnTo>
                  <a:lnTo>
                    <a:pt x="837" y="0"/>
                  </a:lnTo>
                  <a:lnTo>
                    <a:pt x="869" y="0"/>
                  </a:lnTo>
                  <a:lnTo>
                    <a:pt x="869" y="225"/>
                  </a:lnTo>
                  <a:lnTo>
                    <a:pt x="1287" y="417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76160" y="15019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85520" y="186372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08080" y="2041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1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2720" y="33764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34160" y="35542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0400" y="19051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7480" y="20829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5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92080" y="313380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02480" y="3311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792440" y="3902040"/>
            <a:ext cx="4509720" cy="2806200"/>
            <a:chOff x="1792440" y="3902040"/>
            <a:chExt cx="4509720" cy="2806200"/>
          </a:xfrm>
        </p:grpSpPr>
        <p:sp>
          <p:nvSpPr>
            <p:cNvPr id="367" name=""/>
            <p:cNvSpPr/>
            <p:nvPr/>
          </p:nvSpPr>
          <p:spPr>
            <a:xfrm>
              <a:off x="4394880" y="39020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79440" y="6532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2440" y="6477120"/>
              <a:ext cx="2437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900" spc="-1" strike="noStrike">
                  <a:solidFill>
                    <a:srgbClr val="ffffff"/>
                  </a:solidFill>
                  <a:latin typeface="Verdana"/>
                </a:rPr>
                <a:t>Fuente: Banco de Méx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15920" y="4975200"/>
              <a:ext cx="81108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15920" y="4911840"/>
              <a:ext cx="811080" cy="398520"/>
            </a:xfrm>
            <a:custGeom>
              <a:avLst/>
              <a:gdLst/>
              <a:ahLst/>
              <a:rect l="l" t="t" r="r" b="b"/>
              <a:pathLst>
                <a:path w="511" h="251">
                  <a:moveTo>
                    <a:pt x="0" y="32"/>
                  </a:moveTo>
                  <a:lnTo>
                    <a:pt x="24" y="32"/>
                  </a:lnTo>
                  <a:lnTo>
                    <a:pt x="57" y="24"/>
                  </a:lnTo>
                  <a:lnTo>
                    <a:pt x="73" y="24"/>
                  </a:lnTo>
                  <a:lnTo>
                    <a:pt x="97" y="24"/>
                  </a:lnTo>
                  <a:lnTo>
                    <a:pt x="130" y="16"/>
                  </a:lnTo>
                  <a:lnTo>
                    <a:pt x="162" y="16"/>
                  </a:lnTo>
                  <a:lnTo>
                    <a:pt x="179" y="16"/>
                  </a:lnTo>
                  <a:lnTo>
                    <a:pt x="211" y="8"/>
                  </a:lnTo>
                  <a:lnTo>
                    <a:pt x="244" y="8"/>
                  </a:lnTo>
                  <a:lnTo>
                    <a:pt x="276" y="8"/>
                  </a:lnTo>
                  <a:lnTo>
                    <a:pt x="309" y="0"/>
                  </a:lnTo>
                  <a:lnTo>
                    <a:pt x="325" y="0"/>
                  </a:lnTo>
                  <a:lnTo>
                    <a:pt x="357" y="0"/>
                  </a:lnTo>
                  <a:lnTo>
                    <a:pt x="390" y="0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79" y="0"/>
                  </a:lnTo>
                  <a:lnTo>
                    <a:pt x="511" y="0"/>
                  </a:lnTo>
                  <a:lnTo>
                    <a:pt x="511" y="25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12960" y="4987800"/>
              <a:ext cx="81072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19280" y="5040360"/>
              <a:ext cx="979200" cy="718920"/>
            </a:xfrm>
            <a:custGeom>
              <a:avLst/>
              <a:gdLst/>
              <a:ahLst/>
              <a:rect l="l" t="t" r="r" b="b"/>
              <a:pathLst>
                <a:path w="617" h="453">
                  <a:moveTo>
                    <a:pt x="617" y="186"/>
                  </a:moveTo>
                  <a:lnTo>
                    <a:pt x="0" y="0"/>
                  </a:lnTo>
                  <a:lnTo>
                    <a:pt x="0" y="267"/>
                  </a:lnTo>
                  <a:lnTo>
                    <a:pt x="617" y="453"/>
                  </a:lnTo>
                  <a:lnTo>
                    <a:pt x="617" y="186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06680" y="4987800"/>
              <a:ext cx="991800" cy="347760"/>
            </a:xfrm>
            <a:custGeom>
              <a:avLst/>
              <a:gdLst/>
              <a:ahLst/>
              <a:rect l="l" t="t" r="r" b="b"/>
              <a:pathLst>
                <a:path w="625" h="219">
                  <a:moveTo>
                    <a:pt x="0" y="24"/>
                  </a:moveTo>
                  <a:lnTo>
                    <a:pt x="17" y="24"/>
                  </a:lnTo>
                  <a:lnTo>
                    <a:pt x="41" y="16"/>
                  </a:lnTo>
                  <a:lnTo>
                    <a:pt x="57" y="16"/>
                  </a:lnTo>
                  <a:lnTo>
                    <a:pt x="65" y="8"/>
                  </a:lnTo>
                  <a:lnTo>
                    <a:pt x="98" y="8"/>
                  </a:lnTo>
                  <a:lnTo>
                    <a:pt x="114" y="0"/>
                  </a:lnTo>
                  <a:lnTo>
                    <a:pt x="625" y="21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27040" y="5514840"/>
              <a:ext cx="3065040" cy="824040"/>
            </a:xfrm>
            <a:custGeom>
              <a:avLst/>
              <a:gdLst/>
              <a:ahLst/>
              <a:rect l="l" t="t" r="r" b="b"/>
              <a:pathLst>
                <a:path w="1931" h="519">
                  <a:moveTo>
                    <a:pt x="1931" y="0"/>
                  </a:moveTo>
                  <a:lnTo>
                    <a:pt x="1931" y="9"/>
                  </a:lnTo>
                  <a:lnTo>
                    <a:pt x="1923" y="17"/>
                  </a:lnTo>
                  <a:lnTo>
                    <a:pt x="1923" y="25"/>
                  </a:lnTo>
                  <a:lnTo>
                    <a:pt x="1923" y="33"/>
                  </a:lnTo>
                  <a:lnTo>
                    <a:pt x="1915" y="41"/>
                  </a:lnTo>
                  <a:lnTo>
                    <a:pt x="1907" y="49"/>
                  </a:lnTo>
                  <a:lnTo>
                    <a:pt x="1899" y="57"/>
                  </a:lnTo>
                  <a:lnTo>
                    <a:pt x="1891" y="65"/>
                  </a:lnTo>
                  <a:lnTo>
                    <a:pt x="1883" y="73"/>
                  </a:lnTo>
                  <a:lnTo>
                    <a:pt x="1875" y="81"/>
                  </a:lnTo>
                  <a:lnTo>
                    <a:pt x="1858" y="90"/>
                  </a:lnTo>
                  <a:lnTo>
                    <a:pt x="1842" y="98"/>
                  </a:lnTo>
                  <a:lnTo>
                    <a:pt x="1834" y="106"/>
                  </a:lnTo>
                  <a:lnTo>
                    <a:pt x="1818" y="114"/>
                  </a:lnTo>
                  <a:lnTo>
                    <a:pt x="1802" y="122"/>
                  </a:lnTo>
                  <a:lnTo>
                    <a:pt x="1785" y="130"/>
                  </a:lnTo>
                  <a:lnTo>
                    <a:pt x="1761" y="138"/>
                  </a:lnTo>
                  <a:lnTo>
                    <a:pt x="1745" y="146"/>
                  </a:lnTo>
                  <a:lnTo>
                    <a:pt x="1728" y="154"/>
                  </a:lnTo>
                  <a:lnTo>
                    <a:pt x="1704" y="163"/>
                  </a:lnTo>
                  <a:lnTo>
                    <a:pt x="1680" y="163"/>
                  </a:lnTo>
                  <a:lnTo>
                    <a:pt x="1655" y="171"/>
                  </a:lnTo>
                  <a:lnTo>
                    <a:pt x="1631" y="179"/>
                  </a:lnTo>
                  <a:lnTo>
                    <a:pt x="1607" y="187"/>
                  </a:lnTo>
                  <a:lnTo>
                    <a:pt x="1582" y="187"/>
                  </a:lnTo>
                  <a:lnTo>
                    <a:pt x="1558" y="195"/>
                  </a:lnTo>
                  <a:lnTo>
                    <a:pt x="1534" y="203"/>
                  </a:lnTo>
                  <a:lnTo>
                    <a:pt x="1501" y="203"/>
                  </a:lnTo>
                  <a:lnTo>
                    <a:pt x="1477" y="211"/>
                  </a:lnTo>
                  <a:lnTo>
                    <a:pt x="1444" y="219"/>
                  </a:lnTo>
                  <a:lnTo>
                    <a:pt x="1420" y="219"/>
                  </a:lnTo>
                  <a:lnTo>
                    <a:pt x="1388" y="227"/>
                  </a:lnTo>
                  <a:lnTo>
                    <a:pt x="1355" y="227"/>
                  </a:lnTo>
                  <a:lnTo>
                    <a:pt x="1323" y="227"/>
                  </a:lnTo>
                  <a:lnTo>
                    <a:pt x="1290" y="235"/>
                  </a:lnTo>
                  <a:lnTo>
                    <a:pt x="1266" y="235"/>
                  </a:lnTo>
                  <a:lnTo>
                    <a:pt x="1233" y="244"/>
                  </a:lnTo>
                  <a:lnTo>
                    <a:pt x="1201" y="244"/>
                  </a:lnTo>
                  <a:lnTo>
                    <a:pt x="1160" y="244"/>
                  </a:lnTo>
                  <a:lnTo>
                    <a:pt x="1128" y="244"/>
                  </a:lnTo>
                  <a:lnTo>
                    <a:pt x="1095" y="244"/>
                  </a:lnTo>
                  <a:lnTo>
                    <a:pt x="1063" y="252"/>
                  </a:lnTo>
                  <a:lnTo>
                    <a:pt x="1030" y="252"/>
                  </a:lnTo>
                  <a:lnTo>
                    <a:pt x="998" y="252"/>
                  </a:lnTo>
                  <a:lnTo>
                    <a:pt x="966" y="252"/>
                  </a:lnTo>
                  <a:lnTo>
                    <a:pt x="933" y="252"/>
                  </a:lnTo>
                  <a:lnTo>
                    <a:pt x="892" y="252"/>
                  </a:lnTo>
                  <a:lnTo>
                    <a:pt x="860" y="252"/>
                  </a:lnTo>
                  <a:lnTo>
                    <a:pt x="828" y="244"/>
                  </a:lnTo>
                  <a:lnTo>
                    <a:pt x="795" y="244"/>
                  </a:lnTo>
                  <a:lnTo>
                    <a:pt x="763" y="244"/>
                  </a:lnTo>
                  <a:lnTo>
                    <a:pt x="730" y="244"/>
                  </a:lnTo>
                  <a:lnTo>
                    <a:pt x="698" y="244"/>
                  </a:lnTo>
                  <a:lnTo>
                    <a:pt x="665" y="235"/>
                  </a:lnTo>
                  <a:lnTo>
                    <a:pt x="633" y="235"/>
                  </a:lnTo>
                  <a:lnTo>
                    <a:pt x="600" y="227"/>
                  </a:lnTo>
                  <a:lnTo>
                    <a:pt x="568" y="227"/>
                  </a:lnTo>
                  <a:lnTo>
                    <a:pt x="543" y="227"/>
                  </a:lnTo>
                  <a:lnTo>
                    <a:pt x="511" y="219"/>
                  </a:lnTo>
                  <a:lnTo>
                    <a:pt x="479" y="219"/>
                  </a:lnTo>
                  <a:lnTo>
                    <a:pt x="454" y="211"/>
                  </a:lnTo>
                  <a:lnTo>
                    <a:pt x="422" y="203"/>
                  </a:lnTo>
                  <a:lnTo>
                    <a:pt x="397" y="203"/>
                  </a:lnTo>
                  <a:lnTo>
                    <a:pt x="365" y="195"/>
                  </a:lnTo>
                  <a:lnTo>
                    <a:pt x="341" y="187"/>
                  </a:lnTo>
                  <a:lnTo>
                    <a:pt x="316" y="187"/>
                  </a:lnTo>
                  <a:lnTo>
                    <a:pt x="292" y="179"/>
                  </a:lnTo>
                  <a:lnTo>
                    <a:pt x="268" y="171"/>
                  </a:lnTo>
                  <a:lnTo>
                    <a:pt x="243" y="163"/>
                  </a:lnTo>
                  <a:lnTo>
                    <a:pt x="227" y="163"/>
                  </a:lnTo>
                  <a:lnTo>
                    <a:pt x="203" y="154"/>
                  </a:lnTo>
                  <a:lnTo>
                    <a:pt x="178" y="146"/>
                  </a:lnTo>
                  <a:lnTo>
                    <a:pt x="162" y="138"/>
                  </a:lnTo>
                  <a:lnTo>
                    <a:pt x="146" y="130"/>
                  </a:lnTo>
                  <a:lnTo>
                    <a:pt x="130" y="122"/>
                  </a:lnTo>
                  <a:lnTo>
                    <a:pt x="113" y="114"/>
                  </a:lnTo>
                  <a:lnTo>
                    <a:pt x="97" y="106"/>
                  </a:lnTo>
                  <a:lnTo>
                    <a:pt x="81" y="98"/>
                  </a:lnTo>
                  <a:lnTo>
                    <a:pt x="65" y="90"/>
                  </a:lnTo>
                  <a:lnTo>
                    <a:pt x="56" y="81"/>
                  </a:lnTo>
                  <a:lnTo>
                    <a:pt x="48" y="73"/>
                  </a:lnTo>
                  <a:lnTo>
                    <a:pt x="32" y="65"/>
                  </a:lnTo>
                  <a:lnTo>
                    <a:pt x="24" y="57"/>
                  </a:lnTo>
                  <a:lnTo>
                    <a:pt x="16" y="49"/>
                  </a:lnTo>
                  <a:lnTo>
                    <a:pt x="16" y="41"/>
                  </a:lnTo>
                  <a:lnTo>
                    <a:pt x="8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268"/>
                  </a:lnTo>
                  <a:lnTo>
                    <a:pt x="0" y="276"/>
                  </a:lnTo>
                  <a:lnTo>
                    <a:pt x="0" y="284"/>
                  </a:lnTo>
                  <a:lnTo>
                    <a:pt x="0" y="292"/>
                  </a:lnTo>
                  <a:lnTo>
                    <a:pt x="8" y="300"/>
                  </a:lnTo>
                  <a:lnTo>
                    <a:pt x="16" y="308"/>
                  </a:lnTo>
                  <a:lnTo>
                    <a:pt x="16" y="317"/>
                  </a:lnTo>
                  <a:lnTo>
                    <a:pt x="24" y="325"/>
                  </a:lnTo>
                  <a:lnTo>
                    <a:pt x="32" y="333"/>
                  </a:lnTo>
                  <a:lnTo>
                    <a:pt x="48" y="341"/>
                  </a:lnTo>
                  <a:lnTo>
                    <a:pt x="56" y="349"/>
                  </a:lnTo>
                  <a:lnTo>
                    <a:pt x="65" y="357"/>
                  </a:lnTo>
                  <a:lnTo>
                    <a:pt x="81" y="365"/>
                  </a:lnTo>
                  <a:lnTo>
                    <a:pt x="97" y="373"/>
                  </a:lnTo>
                  <a:lnTo>
                    <a:pt x="113" y="381"/>
                  </a:lnTo>
                  <a:lnTo>
                    <a:pt x="130" y="389"/>
                  </a:lnTo>
                  <a:lnTo>
                    <a:pt x="146" y="398"/>
                  </a:lnTo>
                  <a:lnTo>
                    <a:pt x="162" y="406"/>
                  </a:lnTo>
                  <a:lnTo>
                    <a:pt x="178" y="414"/>
                  </a:lnTo>
                  <a:lnTo>
                    <a:pt x="203" y="422"/>
                  </a:lnTo>
                  <a:lnTo>
                    <a:pt x="227" y="430"/>
                  </a:lnTo>
                  <a:lnTo>
                    <a:pt x="243" y="430"/>
                  </a:lnTo>
                  <a:lnTo>
                    <a:pt x="268" y="438"/>
                  </a:lnTo>
                  <a:lnTo>
                    <a:pt x="292" y="446"/>
                  </a:lnTo>
                  <a:lnTo>
                    <a:pt x="316" y="454"/>
                  </a:lnTo>
                  <a:lnTo>
                    <a:pt x="341" y="454"/>
                  </a:lnTo>
                  <a:lnTo>
                    <a:pt x="365" y="462"/>
                  </a:lnTo>
                  <a:lnTo>
                    <a:pt x="397" y="471"/>
                  </a:lnTo>
                  <a:lnTo>
                    <a:pt x="422" y="471"/>
                  </a:lnTo>
                  <a:lnTo>
                    <a:pt x="454" y="479"/>
                  </a:lnTo>
                  <a:lnTo>
                    <a:pt x="479" y="487"/>
                  </a:lnTo>
                  <a:lnTo>
                    <a:pt x="511" y="487"/>
                  </a:lnTo>
                  <a:lnTo>
                    <a:pt x="543" y="495"/>
                  </a:lnTo>
                  <a:lnTo>
                    <a:pt x="568" y="495"/>
                  </a:lnTo>
                  <a:lnTo>
                    <a:pt x="600" y="495"/>
                  </a:lnTo>
                  <a:lnTo>
                    <a:pt x="633" y="503"/>
                  </a:lnTo>
                  <a:lnTo>
                    <a:pt x="665" y="503"/>
                  </a:lnTo>
                  <a:lnTo>
                    <a:pt x="698" y="511"/>
                  </a:lnTo>
                  <a:lnTo>
                    <a:pt x="730" y="511"/>
                  </a:lnTo>
                  <a:lnTo>
                    <a:pt x="763" y="511"/>
                  </a:lnTo>
                  <a:lnTo>
                    <a:pt x="795" y="511"/>
                  </a:lnTo>
                  <a:lnTo>
                    <a:pt x="828" y="511"/>
                  </a:lnTo>
                  <a:lnTo>
                    <a:pt x="860" y="519"/>
                  </a:lnTo>
                  <a:lnTo>
                    <a:pt x="892" y="519"/>
                  </a:lnTo>
                  <a:lnTo>
                    <a:pt x="933" y="519"/>
                  </a:lnTo>
                  <a:lnTo>
                    <a:pt x="966" y="519"/>
                  </a:lnTo>
                  <a:lnTo>
                    <a:pt x="998" y="519"/>
                  </a:lnTo>
                  <a:lnTo>
                    <a:pt x="1030" y="519"/>
                  </a:lnTo>
                  <a:lnTo>
                    <a:pt x="1063" y="519"/>
                  </a:lnTo>
                  <a:lnTo>
                    <a:pt x="1095" y="511"/>
                  </a:lnTo>
                  <a:lnTo>
                    <a:pt x="1128" y="511"/>
                  </a:lnTo>
                  <a:lnTo>
                    <a:pt x="1160" y="511"/>
                  </a:lnTo>
                  <a:lnTo>
                    <a:pt x="1201" y="511"/>
                  </a:lnTo>
                  <a:lnTo>
                    <a:pt x="1233" y="511"/>
                  </a:lnTo>
                  <a:lnTo>
                    <a:pt x="1266" y="503"/>
                  </a:lnTo>
                  <a:lnTo>
                    <a:pt x="1290" y="503"/>
                  </a:lnTo>
                  <a:lnTo>
                    <a:pt x="1323" y="495"/>
                  </a:lnTo>
                  <a:lnTo>
                    <a:pt x="1355" y="495"/>
                  </a:lnTo>
                  <a:lnTo>
                    <a:pt x="1388" y="495"/>
                  </a:lnTo>
                  <a:lnTo>
                    <a:pt x="1420" y="487"/>
                  </a:lnTo>
                  <a:lnTo>
                    <a:pt x="1444" y="487"/>
                  </a:lnTo>
                  <a:lnTo>
                    <a:pt x="1477" y="479"/>
                  </a:lnTo>
                  <a:lnTo>
                    <a:pt x="1501" y="471"/>
                  </a:lnTo>
                  <a:lnTo>
                    <a:pt x="1534" y="471"/>
                  </a:lnTo>
                  <a:lnTo>
                    <a:pt x="1558" y="462"/>
                  </a:lnTo>
                  <a:lnTo>
                    <a:pt x="1582" y="454"/>
                  </a:lnTo>
                  <a:lnTo>
                    <a:pt x="1607" y="454"/>
                  </a:lnTo>
                  <a:lnTo>
                    <a:pt x="1631" y="446"/>
                  </a:lnTo>
                  <a:lnTo>
                    <a:pt x="1655" y="438"/>
                  </a:lnTo>
                  <a:lnTo>
                    <a:pt x="1680" y="430"/>
                  </a:lnTo>
                  <a:lnTo>
                    <a:pt x="1704" y="430"/>
                  </a:lnTo>
                  <a:lnTo>
                    <a:pt x="1728" y="422"/>
                  </a:lnTo>
                  <a:lnTo>
                    <a:pt x="1745" y="414"/>
                  </a:lnTo>
                  <a:lnTo>
                    <a:pt x="1761" y="406"/>
                  </a:lnTo>
                  <a:lnTo>
                    <a:pt x="1785" y="398"/>
                  </a:lnTo>
                  <a:lnTo>
                    <a:pt x="1802" y="389"/>
                  </a:lnTo>
                  <a:lnTo>
                    <a:pt x="1818" y="381"/>
                  </a:lnTo>
                  <a:lnTo>
                    <a:pt x="1834" y="373"/>
                  </a:lnTo>
                  <a:lnTo>
                    <a:pt x="1842" y="365"/>
                  </a:lnTo>
                  <a:lnTo>
                    <a:pt x="1858" y="357"/>
                  </a:lnTo>
                  <a:lnTo>
                    <a:pt x="1875" y="349"/>
                  </a:lnTo>
                  <a:lnTo>
                    <a:pt x="1883" y="341"/>
                  </a:lnTo>
                  <a:lnTo>
                    <a:pt x="1891" y="333"/>
                  </a:lnTo>
                  <a:lnTo>
                    <a:pt x="1899" y="325"/>
                  </a:lnTo>
                  <a:lnTo>
                    <a:pt x="1907" y="317"/>
                  </a:lnTo>
                  <a:lnTo>
                    <a:pt x="1915" y="308"/>
                  </a:lnTo>
                  <a:lnTo>
                    <a:pt x="1923" y="300"/>
                  </a:lnTo>
                  <a:lnTo>
                    <a:pt x="1923" y="292"/>
                  </a:lnTo>
                  <a:lnTo>
                    <a:pt x="1923" y="284"/>
                  </a:lnTo>
                  <a:lnTo>
                    <a:pt x="1931" y="276"/>
                  </a:lnTo>
                  <a:lnTo>
                    <a:pt x="1931" y="268"/>
                  </a:lnTo>
                  <a:lnTo>
                    <a:pt x="1931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27040" y="5116680"/>
              <a:ext cx="3065040" cy="798480"/>
            </a:xfrm>
            <a:custGeom>
              <a:avLst/>
              <a:gdLst/>
              <a:ahLst/>
              <a:rect l="l" t="t" r="r" b="b"/>
              <a:pathLst>
                <a:path w="1931" h="503">
                  <a:moveTo>
                    <a:pt x="966" y="0"/>
                  </a:moveTo>
                  <a:lnTo>
                    <a:pt x="998" y="0"/>
                  </a:lnTo>
                  <a:lnTo>
                    <a:pt x="1030" y="0"/>
                  </a:lnTo>
                  <a:lnTo>
                    <a:pt x="1063" y="0"/>
                  </a:lnTo>
                  <a:lnTo>
                    <a:pt x="1095" y="0"/>
                  </a:lnTo>
                  <a:lnTo>
                    <a:pt x="1128" y="0"/>
                  </a:lnTo>
                  <a:lnTo>
                    <a:pt x="1160" y="0"/>
                  </a:lnTo>
                  <a:lnTo>
                    <a:pt x="1201" y="8"/>
                  </a:lnTo>
                  <a:lnTo>
                    <a:pt x="1233" y="8"/>
                  </a:lnTo>
                  <a:lnTo>
                    <a:pt x="1266" y="8"/>
                  </a:lnTo>
                  <a:lnTo>
                    <a:pt x="1290" y="16"/>
                  </a:lnTo>
                  <a:lnTo>
                    <a:pt x="1323" y="16"/>
                  </a:lnTo>
                  <a:lnTo>
                    <a:pt x="1355" y="16"/>
                  </a:lnTo>
                  <a:lnTo>
                    <a:pt x="1388" y="25"/>
                  </a:lnTo>
                  <a:lnTo>
                    <a:pt x="1420" y="25"/>
                  </a:lnTo>
                  <a:lnTo>
                    <a:pt x="1444" y="33"/>
                  </a:lnTo>
                  <a:lnTo>
                    <a:pt x="1477" y="33"/>
                  </a:lnTo>
                  <a:lnTo>
                    <a:pt x="1501" y="41"/>
                  </a:lnTo>
                  <a:lnTo>
                    <a:pt x="1534" y="49"/>
                  </a:lnTo>
                  <a:lnTo>
                    <a:pt x="1558" y="49"/>
                  </a:lnTo>
                  <a:lnTo>
                    <a:pt x="1582" y="57"/>
                  </a:lnTo>
                  <a:lnTo>
                    <a:pt x="1599" y="57"/>
                  </a:lnTo>
                  <a:lnTo>
                    <a:pt x="1623" y="65"/>
                  </a:lnTo>
                  <a:lnTo>
                    <a:pt x="1647" y="73"/>
                  </a:lnTo>
                  <a:lnTo>
                    <a:pt x="1672" y="81"/>
                  </a:lnTo>
                  <a:lnTo>
                    <a:pt x="1696" y="81"/>
                  </a:lnTo>
                  <a:lnTo>
                    <a:pt x="1712" y="89"/>
                  </a:lnTo>
                  <a:lnTo>
                    <a:pt x="1737" y="97"/>
                  </a:lnTo>
                  <a:lnTo>
                    <a:pt x="1753" y="106"/>
                  </a:lnTo>
                  <a:lnTo>
                    <a:pt x="1777" y="114"/>
                  </a:lnTo>
                  <a:lnTo>
                    <a:pt x="1793" y="122"/>
                  </a:lnTo>
                  <a:lnTo>
                    <a:pt x="1810" y="130"/>
                  </a:lnTo>
                  <a:lnTo>
                    <a:pt x="1826" y="138"/>
                  </a:lnTo>
                  <a:lnTo>
                    <a:pt x="1842" y="146"/>
                  </a:lnTo>
                  <a:lnTo>
                    <a:pt x="1850" y="154"/>
                  </a:lnTo>
                  <a:lnTo>
                    <a:pt x="1866" y="162"/>
                  </a:lnTo>
                  <a:lnTo>
                    <a:pt x="1875" y="170"/>
                  </a:lnTo>
                  <a:lnTo>
                    <a:pt x="1891" y="179"/>
                  </a:lnTo>
                  <a:lnTo>
                    <a:pt x="1899" y="187"/>
                  </a:lnTo>
                  <a:lnTo>
                    <a:pt x="1907" y="195"/>
                  </a:lnTo>
                  <a:lnTo>
                    <a:pt x="1915" y="203"/>
                  </a:lnTo>
                  <a:lnTo>
                    <a:pt x="1915" y="211"/>
                  </a:lnTo>
                  <a:lnTo>
                    <a:pt x="1923" y="219"/>
                  </a:lnTo>
                  <a:lnTo>
                    <a:pt x="1923" y="227"/>
                  </a:lnTo>
                  <a:lnTo>
                    <a:pt x="1931" y="235"/>
                  </a:lnTo>
                  <a:lnTo>
                    <a:pt x="1931" y="243"/>
                  </a:lnTo>
                  <a:lnTo>
                    <a:pt x="1931" y="251"/>
                  </a:lnTo>
                  <a:lnTo>
                    <a:pt x="1931" y="260"/>
                  </a:lnTo>
                  <a:lnTo>
                    <a:pt x="1923" y="268"/>
                  </a:lnTo>
                  <a:lnTo>
                    <a:pt x="1923" y="284"/>
                  </a:lnTo>
                  <a:lnTo>
                    <a:pt x="1915" y="292"/>
                  </a:lnTo>
                  <a:lnTo>
                    <a:pt x="1915" y="300"/>
                  </a:lnTo>
                  <a:lnTo>
                    <a:pt x="1907" y="308"/>
                  </a:lnTo>
                  <a:lnTo>
                    <a:pt x="1899" y="316"/>
                  </a:lnTo>
                  <a:lnTo>
                    <a:pt x="1891" y="324"/>
                  </a:lnTo>
                  <a:lnTo>
                    <a:pt x="1875" y="332"/>
                  </a:lnTo>
                  <a:lnTo>
                    <a:pt x="1866" y="341"/>
                  </a:lnTo>
                  <a:lnTo>
                    <a:pt x="1850" y="349"/>
                  </a:lnTo>
                  <a:lnTo>
                    <a:pt x="1842" y="357"/>
                  </a:lnTo>
                  <a:lnTo>
                    <a:pt x="1826" y="365"/>
                  </a:lnTo>
                  <a:lnTo>
                    <a:pt x="1810" y="373"/>
                  </a:lnTo>
                  <a:lnTo>
                    <a:pt x="1802" y="373"/>
                  </a:lnTo>
                  <a:lnTo>
                    <a:pt x="1785" y="381"/>
                  </a:lnTo>
                  <a:lnTo>
                    <a:pt x="1761" y="389"/>
                  </a:lnTo>
                  <a:lnTo>
                    <a:pt x="1745" y="397"/>
                  </a:lnTo>
                  <a:lnTo>
                    <a:pt x="1728" y="405"/>
                  </a:lnTo>
                  <a:lnTo>
                    <a:pt x="1704" y="414"/>
                  </a:lnTo>
                  <a:lnTo>
                    <a:pt x="1680" y="414"/>
                  </a:lnTo>
                  <a:lnTo>
                    <a:pt x="1655" y="422"/>
                  </a:lnTo>
                  <a:lnTo>
                    <a:pt x="1631" y="430"/>
                  </a:lnTo>
                  <a:lnTo>
                    <a:pt x="1607" y="438"/>
                  </a:lnTo>
                  <a:lnTo>
                    <a:pt x="1582" y="438"/>
                  </a:lnTo>
                  <a:lnTo>
                    <a:pt x="1558" y="446"/>
                  </a:lnTo>
                  <a:lnTo>
                    <a:pt x="1534" y="454"/>
                  </a:lnTo>
                  <a:lnTo>
                    <a:pt x="1501" y="454"/>
                  </a:lnTo>
                  <a:lnTo>
                    <a:pt x="1477" y="462"/>
                  </a:lnTo>
                  <a:lnTo>
                    <a:pt x="1444" y="470"/>
                  </a:lnTo>
                  <a:lnTo>
                    <a:pt x="1420" y="470"/>
                  </a:lnTo>
                  <a:lnTo>
                    <a:pt x="1388" y="478"/>
                  </a:lnTo>
                  <a:lnTo>
                    <a:pt x="1355" y="478"/>
                  </a:lnTo>
                  <a:lnTo>
                    <a:pt x="1323" y="478"/>
                  </a:lnTo>
                  <a:lnTo>
                    <a:pt x="1290" y="486"/>
                  </a:lnTo>
                  <a:lnTo>
                    <a:pt x="1266" y="486"/>
                  </a:lnTo>
                  <a:lnTo>
                    <a:pt x="1233" y="495"/>
                  </a:lnTo>
                  <a:lnTo>
                    <a:pt x="1201" y="495"/>
                  </a:lnTo>
                  <a:lnTo>
                    <a:pt x="1160" y="495"/>
                  </a:lnTo>
                  <a:lnTo>
                    <a:pt x="1128" y="495"/>
                  </a:lnTo>
                  <a:lnTo>
                    <a:pt x="1095" y="495"/>
                  </a:lnTo>
                  <a:lnTo>
                    <a:pt x="1063" y="503"/>
                  </a:lnTo>
                  <a:lnTo>
                    <a:pt x="1030" y="503"/>
                  </a:lnTo>
                  <a:lnTo>
                    <a:pt x="998" y="503"/>
                  </a:lnTo>
                  <a:lnTo>
                    <a:pt x="966" y="503"/>
                  </a:lnTo>
                  <a:lnTo>
                    <a:pt x="933" y="503"/>
                  </a:lnTo>
                  <a:lnTo>
                    <a:pt x="892" y="503"/>
                  </a:lnTo>
                  <a:lnTo>
                    <a:pt x="860" y="503"/>
                  </a:lnTo>
                  <a:lnTo>
                    <a:pt x="828" y="495"/>
                  </a:lnTo>
                  <a:lnTo>
                    <a:pt x="795" y="495"/>
                  </a:lnTo>
                  <a:lnTo>
                    <a:pt x="763" y="495"/>
                  </a:lnTo>
                  <a:lnTo>
                    <a:pt x="730" y="495"/>
                  </a:lnTo>
                  <a:lnTo>
                    <a:pt x="698" y="495"/>
                  </a:lnTo>
                  <a:lnTo>
                    <a:pt x="665" y="486"/>
                  </a:lnTo>
                  <a:lnTo>
                    <a:pt x="633" y="486"/>
                  </a:lnTo>
                  <a:lnTo>
                    <a:pt x="617" y="486"/>
                  </a:lnTo>
                  <a:lnTo>
                    <a:pt x="584" y="478"/>
                  </a:lnTo>
                  <a:lnTo>
                    <a:pt x="552" y="478"/>
                  </a:lnTo>
                  <a:lnTo>
                    <a:pt x="527" y="470"/>
                  </a:lnTo>
                  <a:lnTo>
                    <a:pt x="495" y="470"/>
                  </a:lnTo>
                  <a:lnTo>
                    <a:pt x="462" y="462"/>
                  </a:lnTo>
                  <a:lnTo>
                    <a:pt x="438" y="462"/>
                  </a:lnTo>
                  <a:lnTo>
                    <a:pt x="405" y="454"/>
                  </a:lnTo>
                  <a:lnTo>
                    <a:pt x="381" y="454"/>
                  </a:lnTo>
                  <a:lnTo>
                    <a:pt x="357" y="446"/>
                  </a:lnTo>
                  <a:lnTo>
                    <a:pt x="332" y="438"/>
                  </a:lnTo>
                  <a:lnTo>
                    <a:pt x="308" y="430"/>
                  </a:lnTo>
                  <a:lnTo>
                    <a:pt x="284" y="430"/>
                  </a:lnTo>
                  <a:lnTo>
                    <a:pt x="259" y="422"/>
                  </a:lnTo>
                  <a:lnTo>
                    <a:pt x="235" y="414"/>
                  </a:lnTo>
                  <a:lnTo>
                    <a:pt x="211" y="405"/>
                  </a:lnTo>
                  <a:lnTo>
                    <a:pt x="194" y="397"/>
                  </a:lnTo>
                  <a:lnTo>
                    <a:pt x="170" y="397"/>
                  </a:lnTo>
                  <a:lnTo>
                    <a:pt x="154" y="389"/>
                  </a:lnTo>
                  <a:lnTo>
                    <a:pt x="138" y="381"/>
                  </a:lnTo>
                  <a:lnTo>
                    <a:pt x="121" y="373"/>
                  </a:lnTo>
                  <a:lnTo>
                    <a:pt x="105" y="365"/>
                  </a:lnTo>
                  <a:lnTo>
                    <a:pt x="89" y="357"/>
                  </a:lnTo>
                  <a:lnTo>
                    <a:pt x="73" y="349"/>
                  </a:lnTo>
                  <a:lnTo>
                    <a:pt x="65" y="341"/>
                  </a:lnTo>
                  <a:lnTo>
                    <a:pt x="48" y="332"/>
                  </a:lnTo>
                  <a:lnTo>
                    <a:pt x="40" y="324"/>
                  </a:lnTo>
                  <a:lnTo>
                    <a:pt x="32" y="316"/>
                  </a:lnTo>
                  <a:lnTo>
                    <a:pt x="24" y="308"/>
                  </a:lnTo>
                  <a:lnTo>
                    <a:pt x="16" y="300"/>
                  </a:lnTo>
                  <a:lnTo>
                    <a:pt x="8" y="292"/>
                  </a:lnTo>
                  <a:lnTo>
                    <a:pt x="8" y="284"/>
                  </a:lnTo>
                  <a:lnTo>
                    <a:pt x="0" y="268"/>
                  </a:lnTo>
                  <a:lnTo>
                    <a:pt x="0" y="260"/>
                  </a:lnTo>
                  <a:lnTo>
                    <a:pt x="0" y="251"/>
                  </a:lnTo>
                  <a:lnTo>
                    <a:pt x="0" y="243"/>
                  </a:lnTo>
                  <a:lnTo>
                    <a:pt x="0" y="235"/>
                  </a:lnTo>
                  <a:lnTo>
                    <a:pt x="0" y="227"/>
                  </a:lnTo>
                  <a:lnTo>
                    <a:pt x="8" y="219"/>
                  </a:lnTo>
                  <a:lnTo>
                    <a:pt x="8" y="211"/>
                  </a:lnTo>
                  <a:lnTo>
                    <a:pt x="16" y="203"/>
                  </a:lnTo>
                  <a:lnTo>
                    <a:pt x="16" y="195"/>
                  </a:lnTo>
                  <a:lnTo>
                    <a:pt x="24" y="187"/>
                  </a:lnTo>
                  <a:lnTo>
                    <a:pt x="32" y="179"/>
                  </a:lnTo>
                  <a:lnTo>
                    <a:pt x="48" y="170"/>
                  </a:lnTo>
                  <a:lnTo>
                    <a:pt x="56" y="162"/>
                  </a:lnTo>
                  <a:lnTo>
                    <a:pt x="65" y="154"/>
                  </a:lnTo>
                  <a:lnTo>
                    <a:pt x="81" y="146"/>
                  </a:lnTo>
                  <a:lnTo>
                    <a:pt x="97" y="138"/>
                  </a:lnTo>
                  <a:lnTo>
                    <a:pt x="113" y="130"/>
                  </a:lnTo>
                  <a:lnTo>
                    <a:pt x="130" y="122"/>
                  </a:lnTo>
                  <a:lnTo>
                    <a:pt x="146" y="114"/>
                  </a:lnTo>
                  <a:lnTo>
                    <a:pt x="162" y="106"/>
                  </a:lnTo>
                  <a:lnTo>
                    <a:pt x="178" y="106"/>
                  </a:lnTo>
                  <a:lnTo>
                    <a:pt x="203" y="97"/>
                  </a:lnTo>
                  <a:lnTo>
                    <a:pt x="227" y="89"/>
                  </a:lnTo>
                  <a:lnTo>
                    <a:pt x="243" y="81"/>
                  </a:lnTo>
                  <a:lnTo>
                    <a:pt x="268" y="73"/>
                  </a:lnTo>
                  <a:lnTo>
                    <a:pt x="292" y="65"/>
                  </a:lnTo>
                  <a:lnTo>
                    <a:pt x="316" y="65"/>
                  </a:lnTo>
                  <a:lnTo>
                    <a:pt x="341" y="57"/>
                  </a:lnTo>
                  <a:lnTo>
                    <a:pt x="966" y="251"/>
                  </a:lnTo>
                  <a:lnTo>
                    <a:pt x="966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48880" y="635148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80240" y="4602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73480" y="478152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18440" y="504036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32080" y="5219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89240" y="443556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56000" y="46148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28600" y="3505320"/>
            <a:ext cx="213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270400" y="1523880"/>
            <a:ext cx="3678120" cy="2679120"/>
            <a:chOff x="5270400" y="1523880"/>
            <a:chExt cx="3678120" cy="2679120"/>
          </a:xfrm>
        </p:grpSpPr>
        <p:sp>
          <p:nvSpPr>
            <p:cNvPr id="386" name=""/>
            <p:cNvSpPr/>
            <p:nvPr/>
          </p:nvSpPr>
          <p:spPr>
            <a:xfrm>
              <a:off x="7242120" y="2425320"/>
              <a:ext cx="1440" cy="797040"/>
            </a:xfrm>
            <a:custGeom>
              <a:avLst/>
              <a:gdLst/>
              <a:ahLst/>
              <a:rect l="l" t="t" r="r" b="b"/>
              <a:pathLst>
                <a:path w="0" h="502">
                  <a:moveTo>
                    <a:pt x="0" y="246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0" y="502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33334d"/>
            </a:solidFill>
            <a:ln w="0">
              <a:solidFill>
                <a:srgbClr val="666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35680" y="2442960"/>
              <a:ext cx="357120" cy="779400"/>
            </a:xfrm>
            <a:custGeom>
              <a:avLst/>
              <a:gdLst/>
              <a:ahLst/>
              <a:rect l="l" t="t" r="r" b="b"/>
              <a:pathLst>
                <a:path w="225" h="491">
                  <a:moveTo>
                    <a:pt x="225" y="235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225" y="491"/>
                  </a:lnTo>
                  <a:lnTo>
                    <a:pt x="225" y="235"/>
                  </a:lnTo>
                  <a:close/>
                </a:path>
              </a:pathLst>
            </a:custGeom>
            <a:solidFill>
              <a:srgbClr val="80404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18040" y="2425320"/>
              <a:ext cx="374760" cy="390600"/>
            </a:xfrm>
            <a:custGeom>
              <a:avLst/>
              <a:gdLst/>
              <a:ahLst/>
              <a:rect l="l" t="t" r="r" b="b"/>
              <a:pathLst>
                <a:path w="236" h="246">
                  <a:moveTo>
                    <a:pt x="0" y="0"/>
                  </a:moveTo>
                  <a:lnTo>
                    <a:pt x="41" y="0"/>
                  </a:lnTo>
                  <a:lnTo>
                    <a:pt x="82" y="0"/>
                  </a:lnTo>
                  <a:lnTo>
                    <a:pt x="123" y="0"/>
                  </a:lnTo>
                  <a:lnTo>
                    <a:pt x="154" y="0"/>
                  </a:lnTo>
                  <a:lnTo>
                    <a:pt x="205" y="0"/>
                  </a:lnTo>
                  <a:lnTo>
                    <a:pt x="236" y="0"/>
                  </a:lnTo>
                  <a:lnTo>
                    <a:pt x="236" y="2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32200" y="2669760"/>
              <a:ext cx="1365480" cy="568440"/>
            </a:xfrm>
            <a:custGeom>
              <a:avLst/>
              <a:gdLst/>
              <a:ahLst/>
              <a:rect l="l" t="t" r="r" b="b"/>
              <a:pathLst>
                <a:path w="860" h="358">
                  <a:moveTo>
                    <a:pt x="860" y="102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860" y="358"/>
                  </a:lnTo>
                  <a:lnTo>
                    <a:pt x="860" y="102"/>
                  </a:lnTo>
                  <a:close/>
                </a:path>
              </a:pathLst>
            </a:custGeom>
            <a:solidFill>
              <a:srgbClr val="8066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2200" y="2442960"/>
              <a:ext cx="1365480" cy="388800"/>
            </a:xfrm>
            <a:custGeom>
              <a:avLst/>
              <a:gdLst/>
              <a:ahLst/>
              <a:rect l="l" t="t" r="r" b="b"/>
              <a:pathLst>
                <a:path w="860" h="245">
                  <a:moveTo>
                    <a:pt x="0" y="143"/>
                  </a:moveTo>
                  <a:lnTo>
                    <a:pt x="10" y="133"/>
                  </a:lnTo>
                  <a:lnTo>
                    <a:pt x="30" y="122"/>
                  </a:lnTo>
                  <a:lnTo>
                    <a:pt x="51" y="112"/>
                  </a:lnTo>
                  <a:lnTo>
                    <a:pt x="71" y="102"/>
                  </a:lnTo>
                  <a:lnTo>
                    <a:pt x="92" y="102"/>
                  </a:lnTo>
                  <a:lnTo>
                    <a:pt x="123" y="92"/>
                  </a:lnTo>
                  <a:lnTo>
                    <a:pt x="143" y="81"/>
                  </a:lnTo>
                  <a:lnTo>
                    <a:pt x="184" y="71"/>
                  </a:lnTo>
                  <a:lnTo>
                    <a:pt x="205" y="61"/>
                  </a:lnTo>
                  <a:lnTo>
                    <a:pt x="235" y="61"/>
                  </a:lnTo>
                  <a:lnTo>
                    <a:pt x="266" y="51"/>
                  </a:lnTo>
                  <a:lnTo>
                    <a:pt x="307" y="41"/>
                  </a:lnTo>
                  <a:lnTo>
                    <a:pt x="328" y="41"/>
                  </a:lnTo>
                  <a:lnTo>
                    <a:pt x="368" y="30"/>
                  </a:lnTo>
                  <a:lnTo>
                    <a:pt x="399" y="30"/>
                  </a:lnTo>
                  <a:lnTo>
                    <a:pt x="440" y="20"/>
                  </a:lnTo>
                  <a:lnTo>
                    <a:pt x="471" y="20"/>
                  </a:lnTo>
                  <a:lnTo>
                    <a:pt x="522" y="10"/>
                  </a:lnTo>
                  <a:lnTo>
                    <a:pt x="553" y="10"/>
                  </a:lnTo>
                  <a:lnTo>
                    <a:pt x="594" y="10"/>
                  </a:lnTo>
                  <a:lnTo>
                    <a:pt x="625" y="0"/>
                  </a:lnTo>
                  <a:lnTo>
                    <a:pt x="860" y="245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57640" y="2995200"/>
              <a:ext cx="2990880" cy="797040"/>
            </a:xfrm>
            <a:custGeom>
              <a:avLst/>
              <a:gdLst/>
              <a:ahLst/>
              <a:rect l="l" t="t" r="r" b="b"/>
              <a:pathLst>
                <a:path w="1884" h="502">
                  <a:moveTo>
                    <a:pt x="1884" y="0"/>
                  </a:moveTo>
                  <a:lnTo>
                    <a:pt x="1884" y="10"/>
                  </a:lnTo>
                  <a:lnTo>
                    <a:pt x="1874" y="20"/>
                  </a:lnTo>
                  <a:lnTo>
                    <a:pt x="1874" y="30"/>
                  </a:lnTo>
                  <a:lnTo>
                    <a:pt x="1864" y="41"/>
                  </a:lnTo>
                  <a:lnTo>
                    <a:pt x="1854" y="51"/>
                  </a:lnTo>
                  <a:lnTo>
                    <a:pt x="1843" y="61"/>
                  </a:lnTo>
                  <a:lnTo>
                    <a:pt x="1833" y="71"/>
                  </a:lnTo>
                  <a:lnTo>
                    <a:pt x="1823" y="82"/>
                  </a:lnTo>
                  <a:lnTo>
                    <a:pt x="1802" y="92"/>
                  </a:lnTo>
                  <a:lnTo>
                    <a:pt x="1782" y="102"/>
                  </a:lnTo>
                  <a:lnTo>
                    <a:pt x="1761" y="112"/>
                  </a:lnTo>
                  <a:lnTo>
                    <a:pt x="1751" y="123"/>
                  </a:lnTo>
                  <a:lnTo>
                    <a:pt x="1720" y="133"/>
                  </a:lnTo>
                  <a:lnTo>
                    <a:pt x="1690" y="143"/>
                  </a:lnTo>
                  <a:lnTo>
                    <a:pt x="1669" y="153"/>
                  </a:lnTo>
                  <a:lnTo>
                    <a:pt x="1638" y="164"/>
                  </a:lnTo>
                  <a:lnTo>
                    <a:pt x="1618" y="164"/>
                  </a:lnTo>
                  <a:lnTo>
                    <a:pt x="1577" y="174"/>
                  </a:lnTo>
                  <a:lnTo>
                    <a:pt x="1546" y="184"/>
                  </a:lnTo>
                  <a:lnTo>
                    <a:pt x="1516" y="194"/>
                  </a:lnTo>
                  <a:lnTo>
                    <a:pt x="1485" y="194"/>
                  </a:lnTo>
                  <a:lnTo>
                    <a:pt x="1454" y="205"/>
                  </a:lnTo>
                  <a:lnTo>
                    <a:pt x="1413" y="215"/>
                  </a:lnTo>
                  <a:lnTo>
                    <a:pt x="1372" y="215"/>
                  </a:lnTo>
                  <a:lnTo>
                    <a:pt x="1341" y="225"/>
                  </a:lnTo>
                  <a:lnTo>
                    <a:pt x="1290" y="225"/>
                  </a:lnTo>
                  <a:lnTo>
                    <a:pt x="1259" y="225"/>
                  </a:lnTo>
                  <a:lnTo>
                    <a:pt x="1219" y="235"/>
                  </a:lnTo>
                  <a:lnTo>
                    <a:pt x="1167" y="235"/>
                  </a:lnTo>
                  <a:lnTo>
                    <a:pt x="1137" y="235"/>
                  </a:lnTo>
                  <a:lnTo>
                    <a:pt x="1085" y="235"/>
                  </a:lnTo>
                  <a:lnTo>
                    <a:pt x="1055" y="246"/>
                  </a:lnTo>
                  <a:lnTo>
                    <a:pt x="1003" y="246"/>
                  </a:lnTo>
                  <a:lnTo>
                    <a:pt x="952" y="246"/>
                  </a:lnTo>
                  <a:lnTo>
                    <a:pt x="921" y="246"/>
                  </a:lnTo>
                  <a:lnTo>
                    <a:pt x="870" y="246"/>
                  </a:lnTo>
                  <a:lnTo>
                    <a:pt x="829" y="246"/>
                  </a:lnTo>
                  <a:lnTo>
                    <a:pt x="788" y="235"/>
                  </a:lnTo>
                  <a:lnTo>
                    <a:pt x="747" y="235"/>
                  </a:lnTo>
                  <a:lnTo>
                    <a:pt x="706" y="235"/>
                  </a:lnTo>
                  <a:lnTo>
                    <a:pt x="665" y="235"/>
                  </a:lnTo>
                  <a:lnTo>
                    <a:pt x="614" y="225"/>
                  </a:lnTo>
                  <a:lnTo>
                    <a:pt x="583" y="225"/>
                  </a:lnTo>
                  <a:lnTo>
                    <a:pt x="542" y="225"/>
                  </a:lnTo>
                  <a:lnTo>
                    <a:pt x="512" y="215"/>
                  </a:lnTo>
                  <a:lnTo>
                    <a:pt x="471" y="215"/>
                  </a:lnTo>
                  <a:lnTo>
                    <a:pt x="430" y="205"/>
                  </a:lnTo>
                  <a:lnTo>
                    <a:pt x="399" y="194"/>
                  </a:lnTo>
                  <a:lnTo>
                    <a:pt x="358" y="194"/>
                  </a:lnTo>
                  <a:lnTo>
                    <a:pt x="338" y="184"/>
                  </a:lnTo>
                  <a:lnTo>
                    <a:pt x="297" y="174"/>
                  </a:lnTo>
                  <a:lnTo>
                    <a:pt x="266" y="164"/>
                  </a:lnTo>
                  <a:lnTo>
                    <a:pt x="235" y="164"/>
                  </a:lnTo>
                  <a:lnTo>
                    <a:pt x="204" y="153"/>
                  </a:lnTo>
                  <a:lnTo>
                    <a:pt x="184" y="143"/>
                  </a:lnTo>
                  <a:lnTo>
                    <a:pt x="153" y="133"/>
                  </a:lnTo>
                  <a:lnTo>
                    <a:pt x="133" y="123"/>
                  </a:lnTo>
                  <a:lnTo>
                    <a:pt x="112" y="112"/>
                  </a:lnTo>
                  <a:lnTo>
                    <a:pt x="92" y="102"/>
                  </a:lnTo>
                  <a:lnTo>
                    <a:pt x="71" y="92"/>
                  </a:lnTo>
                  <a:lnTo>
                    <a:pt x="61" y="82"/>
                  </a:lnTo>
                  <a:lnTo>
                    <a:pt x="41" y="71"/>
                  </a:lnTo>
                  <a:lnTo>
                    <a:pt x="30" y="61"/>
                  </a:lnTo>
                  <a:lnTo>
                    <a:pt x="20" y="51"/>
                  </a:lnTo>
                  <a:lnTo>
                    <a:pt x="10" y="41"/>
                  </a:lnTo>
                  <a:lnTo>
                    <a:pt x="1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0" y="266"/>
                  </a:lnTo>
                  <a:lnTo>
                    <a:pt x="0" y="276"/>
                  </a:lnTo>
                  <a:lnTo>
                    <a:pt x="10" y="287"/>
                  </a:lnTo>
                  <a:lnTo>
                    <a:pt x="10" y="297"/>
                  </a:lnTo>
                  <a:lnTo>
                    <a:pt x="20" y="307"/>
                  </a:lnTo>
                  <a:lnTo>
                    <a:pt x="30" y="317"/>
                  </a:lnTo>
                  <a:lnTo>
                    <a:pt x="41" y="328"/>
                  </a:lnTo>
                  <a:lnTo>
                    <a:pt x="61" y="338"/>
                  </a:lnTo>
                  <a:lnTo>
                    <a:pt x="71" y="348"/>
                  </a:lnTo>
                  <a:lnTo>
                    <a:pt x="92" y="358"/>
                  </a:lnTo>
                  <a:lnTo>
                    <a:pt x="112" y="368"/>
                  </a:lnTo>
                  <a:lnTo>
                    <a:pt x="133" y="379"/>
                  </a:lnTo>
                  <a:lnTo>
                    <a:pt x="153" y="389"/>
                  </a:lnTo>
                  <a:lnTo>
                    <a:pt x="184" y="399"/>
                  </a:lnTo>
                  <a:lnTo>
                    <a:pt x="204" y="409"/>
                  </a:lnTo>
                  <a:lnTo>
                    <a:pt x="235" y="420"/>
                  </a:lnTo>
                  <a:lnTo>
                    <a:pt x="266" y="420"/>
                  </a:lnTo>
                  <a:lnTo>
                    <a:pt x="297" y="430"/>
                  </a:lnTo>
                  <a:lnTo>
                    <a:pt x="338" y="440"/>
                  </a:lnTo>
                  <a:lnTo>
                    <a:pt x="358" y="450"/>
                  </a:lnTo>
                  <a:lnTo>
                    <a:pt x="399" y="450"/>
                  </a:lnTo>
                  <a:lnTo>
                    <a:pt x="430" y="461"/>
                  </a:lnTo>
                  <a:lnTo>
                    <a:pt x="471" y="471"/>
                  </a:lnTo>
                  <a:lnTo>
                    <a:pt x="512" y="471"/>
                  </a:lnTo>
                  <a:lnTo>
                    <a:pt x="542" y="481"/>
                  </a:lnTo>
                  <a:lnTo>
                    <a:pt x="583" y="481"/>
                  </a:lnTo>
                  <a:lnTo>
                    <a:pt x="614" y="481"/>
                  </a:lnTo>
                  <a:lnTo>
                    <a:pt x="665" y="491"/>
                  </a:lnTo>
                  <a:lnTo>
                    <a:pt x="706" y="491"/>
                  </a:lnTo>
                  <a:lnTo>
                    <a:pt x="747" y="491"/>
                  </a:lnTo>
                  <a:lnTo>
                    <a:pt x="788" y="491"/>
                  </a:lnTo>
                  <a:lnTo>
                    <a:pt x="829" y="502"/>
                  </a:lnTo>
                  <a:lnTo>
                    <a:pt x="870" y="502"/>
                  </a:lnTo>
                  <a:lnTo>
                    <a:pt x="921" y="502"/>
                  </a:lnTo>
                  <a:lnTo>
                    <a:pt x="952" y="502"/>
                  </a:lnTo>
                  <a:lnTo>
                    <a:pt x="1003" y="502"/>
                  </a:lnTo>
                  <a:lnTo>
                    <a:pt x="1055" y="502"/>
                  </a:lnTo>
                  <a:lnTo>
                    <a:pt x="1085" y="491"/>
                  </a:lnTo>
                  <a:lnTo>
                    <a:pt x="1137" y="491"/>
                  </a:lnTo>
                  <a:lnTo>
                    <a:pt x="1167" y="491"/>
                  </a:lnTo>
                  <a:lnTo>
                    <a:pt x="1219" y="491"/>
                  </a:lnTo>
                  <a:lnTo>
                    <a:pt x="1259" y="481"/>
                  </a:lnTo>
                  <a:lnTo>
                    <a:pt x="1290" y="481"/>
                  </a:lnTo>
                  <a:lnTo>
                    <a:pt x="1341" y="481"/>
                  </a:lnTo>
                  <a:lnTo>
                    <a:pt x="1372" y="471"/>
                  </a:lnTo>
                  <a:lnTo>
                    <a:pt x="1413" y="471"/>
                  </a:lnTo>
                  <a:lnTo>
                    <a:pt x="1454" y="461"/>
                  </a:lnTo>
                  <a:lnTo>
                    <a:pt x="1485" y="450"/>
                  </a:lnTo>
                  <a:lnTo>
                    <a:pt x="1516" y="450"/>
                  </a:lnTo>
                  <a:lnTo>
                    <a:pt x="1546" y="440"/>
                  </a:lnTo>
                  <a:lnTo>
                    <a:pt x="1577" y="430"/>
                  </a:lnTo>
                  <a:lnTo>
                    <a:pt x="1618" y="420"/>
                  </a:lnTo>
                  <a:lnTo>
                    <a:pt x="1638" y="420"/>
                  </a:lnTo>
                  <a:lnTo>
                    <a:pt x="1669" y="409"/>
                  </a:lnTo>
                  <a:lnTo>
                    <a:pt x="1690" y="399"/>
                  </a:lnTo>
                  <a:lnTo>
                    <a:pt x="1720" y="389"/>
                  </a:lnTo>
                  <a:lnTo>
                    <a:pt x="1751" y="379"/>
                  </a:lnTo>
                  <a:lnTo>
                    <a:pt x="1761" y="368"/>
                  </a:lnTo>
                  <a:lnTo>
                    <a:pt x="1782" y="358"/>
                  </a:lnTo>
                  <a:lnTo>
                    <a:pt x="1802" y="348"/>
                  </a:lnTo>
                  <a:lnTo>
                    <a:pt x="1823" y="338"/>
                  </a:lnTo>
                  <a:lnTo>
                    <a:pt x="1833" y="328"/>
                  </a:lnTo>
                  <a:lnTo>
                    <a:pt x="1843" y="317"/>
                  </a:lnTo>
                  <a:lnTo>
                    <a:pt x="1854" y="307"/>
                  </a:lnTo>
                  <a:lnTo>
                    <a:pt x="1864" y="297"/>
                  </a:lnTo>
                  <a:lnTo>
                    <a:pt x="1874" y="287"/>
                  </a:lnTo>
                  <a:lnTo>
                    <a:pt x="1874" y="276"/>
                  </a:lnTo>
                  <a:lnTo>
                    <a:pt x="1884" y="266"/>
                  </a:lnTo>
                  <a:lnTo>
                    <a:pt x="1884" y="256"/>
                  </a:lnTo>
                  <a:lnTo>
                    <a:pt x="1884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57640" y="2604960"/>
              <a:ext cx="2990880" cy="780840"/>
            </a:xfrm>
            <a:custGeom>
              <a:avLst/>
              <a:gdLst/>
              <a:ahLst/>
              <a:rect l="l" t="t" r="r" b="b"/>
              <a:pathLst>
                <a:path w="1884" h="492">
                  <a:moveTo>
                    <a:pt x="942" y="0"/>
                  </a:moveTo>
                  <a:lnTo>
                    <a:pt x="993" y="0"/>
                  </a:lnTo>
                  <a:lnTo>
                    <a:pt x="1024" y="0"/>
                  </a:lnTo>
                  <a:lnTo>
                    <a:pt x="1075" y="0"/>
                  </a:lnTo>
                  <a:lnTo>
                    <a:pt x="1116" y="0"/>
                  </a:lnTo>
                  <a:lnTo>
                    <a:pt x="1147" y="0"/>
                  </a:lnTo>
                  <a:lnTo>
                    <a:pt x="1198" y="10"/>
                  </a:lnTo>
                  <a:lnTo>
                    <a:pt x="1249" y="10"/>
                  </a:lnTo>
                  <a:lnTo>
                    <a:pt x="1280" y="10"/>
                  </a:lnTo>
                  <a:lnTo>
                    <a:pt x="1321" y="20"/>
                  </a:lnTo>
                  <a:lnTo>
                    <a:pt x="1352" y="20"/>
                  </a:lnTo>
                  <a:lnTo>
                    <a:pt x="1393" y="31"/>
                  </a:lnTo>
                  <a:lnTo>
                    <a:pt x="1444" y="31"/>
                  </a:lnTo>
                  <a:lnTo>
                    <a:pt x="1464" y="41"/>
                  </a:lnTo>
                  <a:lnTo>
                    <a:pt x="1505" y="51"/>
                  </a:lnTo>
                  <a:lnTo>
                    <a:pt x="1546" y="51"/>
                  </a:lnTo>
                  <a:lnTo>
                    <a:pt x="1567" y="61"/>
                  </a:lnTo>
                  <a:lnTo>
                    <a:pt x="1608" y="72"/>
                  </a:lnTo>
                  <a:lnTo>
                    <a:pt x="1638" y="82"/>
                  </a:lnTo>
                  <a:lnTo>
                    <a:pt x="1659" y="82"/>
                  </a:lnTo>
                  <a:lnTo>
                    <a:pt x="1690" y="92"/>
                  </a:lnTo>
                  <a:lnTo>
                    <a:pt x="1720" y="102"/>
                  </a:lnTo>
                  <a:lnTo>
                    <a:pt x="1741" y="113"/>
                  </a:lnTo>
                  <a:lnTo>
                    <a:pt x="1761" y="123"/>
                  </a:lnTo>
                  <a:lnTo>
                    <a:pt x="1782" y="133"/>
                  </a:lnTo>
                  <a:lnTo>
                    <a:pt x="1802" y="143"/>
                  </a:lnTo>
                  <a:lnTo>
                    <a:pt x="1823" y="154"/>
                  </a:lnTo>
                  <a:lnTo>
                    <a:pt x="1833" y="164"/>
                  </a:lnTo>
                  <a:lnTo>
                    <a:pt x="1843" y="174"/>
                  </a:lnTo>
                  <a:lnTo>
                    <a:pt x="1854" y="184"/>
                  </a:lnTo>
                  <a:lnTo>
                    <a:pt x="1864" y="195"/>
                  </a:lnTo>
                  <a:lnTo>
                    <a:pt x="1874" y="205"/>
                  </a:lnTo>
                  <a:lnTo>
                    <a:pt x="1874" y="225"/>
                  </a:lnTo>
                  <a:lnTo>
                    <a:pt x="1884" y="225"/>
                  </a:lnTo>
                  <a:lnTo>
                    <a:pt x="1884" y="246"/>
                  </a:lnTo>
                  <a:lnTo>
                    <a:pt x="1884" y="256"/>
                  </a:lnTo>
                  <a:lnTo>
                    <a:pt x="1874" y="266"/>
                  </a:lnTo>
                  <a:lnTo>
                    <a:pt x="1874" y="276"/>
                  </a:lnTo>
                  <a:lnTo>
                    <a:pt x="1864" y="287"/>
                  </a:lnTo>
                  <a:lnTo>
                    <a:pt x="1854" y="297"/>
                  </a:lnTo>
                  <a:lnTo>
                    <a:pt x="1843" y="307"/>
                  </a:lnTo>
                  <a:lnTo>
                    <a:pt x="1833" y="328"/>
                  </a:lnTo>
                  <a:lnTo>
                    <a:pt x="1823" y="328"/>
                  </a:lnTo>
                  <a:lnTo>
                    <a:pt x="1802" y="348"/>
                  </a:lnTo>
                  <a:lnTo>
                    <a:pt x="1782" y="358"/>
                  </a:lnTo>
                  <a:lnTo>
                    <a:pt x="1761" y="358"/>
                  </a:lnTo>
                  <a:lnTo>
                    <a:pt x="1741" y="369"/>
                  </a:lnTo>
                  <a:lnTo>
                    <a:pt x="1720" y="379"/>
                  </a:lnTo>
                  <a:lnTo>
                    <a:pt x="1690" y="389"/>
                  </a:lnTo>
                  <a:lnTo>
                    <a:pt x="1659" y="399"/>
                  </a:lnTo>
                  <a:lnTo>
                    <a:pt x="1638" y="410"/>
                  </a:lnTo>
                  <a:lnTo>
                    <a:pt x="1608" y="420"/>
                  </a:lnTo>
                  <a:lnTo>
                    <a:pt x="1567" y="430"/>
                  </a:lnTo>
                  <a:lnTo>
                    <a:pt x="1546" y="430"/>
                  </a:lnTo>
                  <a:lnTo>
                    <a:pt x="1505" y="440"/>
                  </a:lnTo>
                  <a:lnTo>
                    <a:pt x="1464" y="451"/>
                  </a:lnTo>
                  <a:lnTo>
                    <a:pt x="1444" y="451"/>
                  </a:lnTo>
                  <a:lnTo>
                    <a:pt x="1393" y="461"/>
                  </a:lnTo>
                  <a:lnTo>
                    <a:pt x="1352" y="461"/>
                  </a:lnTo>
                  <a:lnTo>
                    <a:pt x="1321" y="471"/>
                  </a:lnTo>
                  <a:lnTo>
                    <a:pt x="1280" y="471"/>
                  </a:lnTo>
                  <a:lnTo>
                    <a:pt x="1229" y="481"/>
                  </a:lnTo>
                  <a:lnTo>
                    <a:pt x="1198" y="481"/>
                  </a:lnTo>
                  <a:lnTo>
                    <a:pt x="1147" y="481"/>
                  </a:lnTo>
                  <a:lnTo>
                    <a:pt x="1106" y="481"/>
                  </a:lnTo>
                  <a:lnTo>
                    <a:pt x="1075" y="492"/>
                  </a:lnTo>
                  <a:lnTo>
                    <a:pt x="1024" y="492"/>
                  </a:lnTo>
                  <a:lnTo>
                    <a:pt x="993" y="492"/>
                  </a:lnTo>
                  <a:lnTo>
                    <a:pt x="942" y="492"/>
                  </a:lnTo>
                  <a:lnTo>
                    <a:pt x="891" y="492"/>
                  </a:lnTo>
                  <a:lnTo>
                    <a:pt x="860" y="492"/>
                  </a:lnTo>
                  <a:lnTo>
                    <a:pt x="809" y="492"/>
                  </a:lnTo>
                  <a:lnTo>
                    <a:pt x="758" y="481"/>
                  </a:lnTo>
                  <a:lnTo>
                    <a:pt x="727" y="481"/>
                  </a:lnTo>
                  <a:lnTo>
                    <a:pt x="676" y="481"/>
                  </a:lnTo>
                  <a:lnTo>
                    <a:pt x="635" y="471"/>
                  </a:lnTo>
                  <a:lnTo>
                    <a:pt x="604" y="471"/>
                  </a:lnTo>
                  <a:lnTo>
                    <a:pt x="553" y="471"/>
                  </a:lnTo>
                  <a:lnTo>
                    <a:pt x="512" y="461"/>
                  </a:lnTo>
                  <a:lnTo>
                    <a:pt x="481" y="461"/>
                  </a:lnTo>
                  <a:lnTo>
                    <a:pt x="440" y="451"/>
                  </a:lnTo>
                  <a:lnTo>
                    <a:pt x="399" y="440"/>
                  </a:lnTo>
                  <a:lnTo>
                    <a:pt x="368" y="440"/>
                  </a:lnTo>
                  <a:lnTo>
                    <a:pt x="338" y="430"/>
                  </a:lnTo>
                  <a:lnTo>
                    <a:pt x="307" y="430"/>
                  </a:lnTo>
                  <a:lnTo>
                    <a:pt x="276" y="420"/>
                  </a:lnTo>
                  <a:lnTo>
                    <a:pt x="235" y="410"/>
                  </a:lnTo>
                  <a:lnTo>
                    <a:pt x="215" y="399"/>
                  </a:lnTo>
                  <a:lnTo>
                    <a:pt x="184" y="389"/>
                  </a:lnTo>
                  <a:lnTo>
                    <a:pt x="153" y="379"/>
                  </a:lnTo>
                  <a:lnTo>
                    <a:pt x="143" y="369"/>
                  </a:lnTo>
                  <a:lnTo>
                    <a:pt x="112" y="358"/>
                  </a:lnTo>
                  <a:lnTo>
                    <a:pt x="92" y="348"/>
                  </a:lnTo>
                  <a:lnTo>
                    <a:pt x="82" y="348"/>
                  </a:lnTo>
                  <a:lnTo>
                    <a:pt x="61" y="328"/>
                  </a:lnTo>
                  <a:lnTo>
                    <a:pt x="41" y="317"/>
                  </a:lnTo>
                  <a:lnTo>
                    <a:pt x="30" y="307"/>
                  </a:lnTo>
                  <a:lnTo>
                    <a:pt x="20" y="297"/>
                  </a:lnTo>
                  <a:lnTo>
                    <a:pt x="10" y="287"/>
                  </a:lnTo>
                  <a:lnTo>
                    <a:pt x="10" y="276"/>
                  </a:lnTo>
                  <a:lnTo>
                    <a:pt x="0" y="266"/>
                  </a:lnTo>
                  <a:lnTo>
                    <a:pt x="0" y="256"/>
                  </a:lnTo>
                  <a:lnTo>
                    <a:pt x="0" y="246"/>
                  </a:lnTo>
                  <a:lnTo>
                    <a:pt x="0" y="225"/>
                  </a:lnTo>
                  <a:lnTo>
                    <a:pt x="0" y="225"/>
                  </a:lnTo>
                  <a:lnTo>
                    <a:pt x="10" y="205"/>
                  </a:lnTo>
                  <a:lnTo>
                    <a:pt x="10" y="195"/>
                  </a:lnTo>
                  <a:lnTo>
                    <a:pt x="20" y="184"/>
                  </a:lnTo>
                  <a:lnTo>
                    <a:pt x="30" y="174"/>
                  </a:lnTo>
                  <a:lnTo>
                    <a:pt x="51" y="164"/>
                  </a:lnTo>
                  <a:lnTo>
                    <a:pt x="61" y="154"/>
                  </a:lnTo>
                  <a:lnTo>
                    <a:pt x="82" y="143"/>
                  </a:lnTo>
                  <a:lnTo>
                    <a:pt x="942" y="246"/>
                  </a:lnTo>
                  <a:lnTo>
                    <a:pt x="94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1560" y="152388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58960" y="3839760"/>
              <a:ext cx="916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09960" y="40352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96840" y="1938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0916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87680" y="193824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59628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70400" y="21985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11600" y="23936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1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6019920" y="434340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1619280" y="6093000"/>
            <a:ext cx="6381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ecretaría de Economía de México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547640" y="1989000"/>
            <a:ext cx="6550200" cy="3978360"/>
            <a:chOff x="1547640" y="1989000"/>
            <a:chExt cx="6550200" cy="3978360"/>
          </a:xfrm>
        </p:grpSpPr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1547640" y="1989000"/>
              <a:ext cx="6550200" cy="39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525280" y="2811600"/>
              <a:ext cx="13701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Verdana"/>
                </a:rPr>
                <a:t>Crisis del </a:t>
              </a:r>
              <a:r>
                <a:rPr b="1" lang="es-MX" sz="1300" spc="-1" strike="noStrike">
                  <a:solidFill>
                    <a:srgbClr val="ffffff"/>
                  </a:solidFill>
                  <a:latin typeface="Verdana"/>
                </a:rPr>
                <a:t>Tequil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La brecha de desarrollo entre México y EE.UU. se ha reduci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Es decir, desde 1994 sus niveles de PBI per cápita se están acercando cada vez más (convergencia del PBI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No obstante, la Crisis del Tequila (1995) hizo que la brecha se incrementara significativamente, pero temporalment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29264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000" spc="-1" strike="noStrike">
                <a:solidFill>
                  <a:srgbClr val="ffffff"/>
                </a:solidFill>
                <a:latin typeface="Tahoma"/>
              </a:rPr>
              <a:t>Efectos de la integración comercial en una economía en desarrollo</a:t>
            </a:r>
            <a:endParaRPr b="1" lang="en-US" sz="5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41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127160" y="2281320"/>
            <a:ext cx="7189560" cy="3667680"/>
            <a:chOff x="1127160" y="2281320"/>
            <a:chExt cx="7189560" cy="3667680"/>
          </a:xfrm>
        </p:grpSpPr>
        <p:sp>
          <p:nvSpPr>
            <p:cNvPr id="494" name=""/>
            <p:cNvSpPr/>
            <p:nvPr/>
          </p:nvSpPr>
          <p:spPr>
            <a:xfrm>
              <a:off x="1761480" y="2837520"/>
              <a:ext cx="1800" cy="1989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99920" y="48265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99920" y="4548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99920" y="424980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99920" y="397188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99920" y="3693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99920" y="34153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99920" y="31158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99920" y="283752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61480" y="4826520"/>
              <a:ext cx="64558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176148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56896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37608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1814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49885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57960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66031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4106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21772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65040" y="3073680"/>
              <a:ext cx="5648400" cy="1132920"/>
            </a:xfrm>
            <a:custGeom>
              <a:avLst/>
              <a:gdLst/>
              <a:ahLst/>
              <a:rect l="l" t="t" r="r" b="b"/>
              <a:pathLst>
                <a:path w="280" h="53">
                  <a:moveTo>
                    <a:pt x="0" y="0"/>
                  </a:moveTo>
                  <a:lnTo>
                    <a:pt x="40" y="9"/>
                  </a:lnTo>
                  <a:lnTo>
                    <a:pt x="80" y="33"/>
                  </a:lnTo>
                  <a:lnTo>
                    <a:pt x="120" y="39"/>
                  </a:lnTo>
                  <a:lnTo>
                    <a:pt x="160" y="49"/>
                  </a:lnTo>
                  <a:lnTo>
                    <a:pt x="200" y="53"/>
                  </a:lnTo>
                  <a:lnTo>
                    <a:pt x="240" y="50"/>
                  </a:lnTo>
                  <a:lnTo>
                    <a:pt x="280" y="46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03480" y="30085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10960" y="32011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18080" y="37134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25200" y="384300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32680" y="4057560"/>
              <a:ext cx="1213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39800" y="4142880"/>
              <a:ext cx="1195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45120" y="40770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52240" y="3991680"/>
              <a:ext cx="12168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01240" y="2281320"/>
              <a:ext cx="21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Verdana"/>
                </a:rPr>
                <a:t>Tasa de Desempl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58800" y="35647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73000" y="36500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66240" y="362808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59920" y="34153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952440" y="33300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77280" y="26028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6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27040" y="29444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5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46680" y="4677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46680" y="43992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46680" y="40989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46680" y="382104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46680" y="35427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46680" y="3264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46680" y="29664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6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46680" y="268812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0800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1548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52116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279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350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425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496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571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27160" y="5548320"/>
              <a:ext cx="7189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Instituto Nacional de Estadística, Geografía e Informática de Méxic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gricultur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anto en México como en EE.UU. la demanda por productos agrícolas creció entre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1995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 incrementó la productividad, sobre todo en la agricultura con sistemas de irrig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4495680" y="5334120"/>
            <a:ext cx="441972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* Incluye productos agrícolas y silvícolas, y los de ganadería, apicultura, caza y pesca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600800" y="2081160"/>
            <a:ext cx="4278240" cy="3052440"/>
            <a:chOff x="4600800" y="2081160"/>
            <a:chExt cx="4278240" cy="3052440"/>
          </a:xfrm>
        </p:grpSpPr>
        <p:sp>
          <p:nvSpPr>
            <p:cNvPr id="551" name=""/>
            <p:cNvSpPr/>
            <p:nvPr/>
          </p:nvSpPr>
          <p:spPr>
            <a:xfrm>
              <a:off x="5081760" y="2631960"/>
              <a:ext cx="1440" cy="2021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32440" y="46530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32440" y="43182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32440" y="39798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32440" y="36432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32440" y="33051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32440" y="297036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32440" y="26319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81760" y="4653000"/>
              <a:ext cx="37954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5081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5238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53974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5554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57150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58723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60292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1894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6346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65041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6662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68216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9804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71373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72946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454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6122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7691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929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80866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82454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8402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85615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87202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887724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60960" y="4138560"/>
              <a:ext cx="157320" cy="15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18280" y="4154400"/>
              <a:ext cx="156960" cy="842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75240" y="4238640"/>
              <a:ext cx="160560" cy="144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5635800" y="4162320"/>
              <a:ext cx="156960" cy="9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92760" y="4162320"/>
              <a:ext cx="158760" cy="17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951520" y="3946680"/>
              <a:ext cx="157320" cy="233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08840" y="3946680"/>
              <a:ext cx="158760" cy="1872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6267600" y="4090680"/>
              <a:ext cx="158760" cy="4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6426360" y="4062240"/>
              <a:ext cx="156960" cy="284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6583320" y="3925800"/>
              <a:ext cx="157320" cy="1368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740640" y="3854520"/>
              <a:ext cx="160200" cy="71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00840" y="3854520"/>
              <a:ext cx="157320" cy="87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058160" y="3809880"/>
              <a:ext cx="158760" cy="1317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216920" y="3750840"/>
              <a:ext cx="158760" cy="586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375680" y="3300480"/>
              <a:ext cx="156960" cy="45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32640" y="3300480"/>
              <a:ext cx="158760" cy="141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691400" y="3365280"/>
              <a:ext cx="157320" cy="759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848720" y="3365640"/>
              <a:ext cx="158760" cy="93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8007480" y="3330360"/>
              <a:ext cx="158760" cy="44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8166240" y="3232080"/>
              <a:ext cx="156960" cy="98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23200" y="3232080"/>
              <a:ext cx="160560" cy="1080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483760" y="3340080"/>
              <a:ext cx="156960" cy="9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640720" y="3036600"/>
              <a:ext cx="157320" cy="31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64400" y="2081160"/>
              <a:ext cx="377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Exportaciones agropecuarias* México 1980 - 2003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01560" y="2276640"/>
              <a:ext cx="1585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(millones de dólare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68640" y="45576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00800" y="42213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600800" y="38829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00800" y="35481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3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00800" y="3210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4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00800" y="28735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5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00800" y="2535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6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6200000">
              <a:off x="49813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6200000">
              <a:off x="529560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6200000">
              <a:off x="56131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6200000">
              <a:off x="593064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6200000">
              <a:off x="62467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200000">
              <a:off x="65624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6200000">
              <a:off x="687852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6200000">
              <a:off x="71960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6200000">
              <a:off x="751176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6200000">
              <a:off x="7827840" y="48664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6200000">
              <a:off x="814356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6200000">
              <a:off x="846108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7431120" y="2627280"/>
              <a:ext cx="144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149880" y="2627280"/>
              <a:ext cx="180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2748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02800" y="334656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Economí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44920" y="3513240"/>
              <a:ext cx="476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errad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4212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40200" y="3346560"/>
              <a:ext cx="313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GAT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34240" y="2897280"/>
              <a:ext cx="9000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95240" y="291312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553080" cy="43480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569960" y="6490800"/>
            <a:ext cx="688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: NAFTA, Secretaría de Agricultura, Ganadería, Desarrollo Rural, Pesca y Aliment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n cuanto a las regiones de México, a partir de 1994 el PBI per cápita de estados como el D.F., Nuevo León, Chihuahua y Sonora se incrementó considerable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ero el de estados como Guerrero, Chiapas y Oaxaca se mantuvo prácticamente consta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egún el BM, los siguientes factores explican las diferencias entre estados en los 90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ducación inicial (analfabetismo y años de educación de la población adul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Infraestructura (acceso a telecomunicacion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osible inestabilidad po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ica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y deficientes institu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i los estados pobres hubiesen estado parejos en educación, instituciones e infraestructura con los estados ricos; hubieran crecido más que estos últi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La brecha institucional impide la reducción de la brecha de desarrollo entre México y EE.U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80880" y="2879640"/>
            <a:ext cx="8763120" cy="33688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914400" y="6248520"/>
            <a:ext cx="453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Banco Mundia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cancun20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3124080"/>
            <a:ext cx="2971800" cy="216072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42184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Los otros obstácul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6172200" y="2666880"/>
            <a:ext cx="2666880" cy="177480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Monterrey"/>
          <p:cNvPicPr/>
          <p:nvPr/>
        </p:nvPicPr>
        <p:blipFill>
          <a:blip r:embed="rId4"/>
          <a:stretch/>
        </p:blipFill>
        <p:spPr>
          <a:xfrm>
            <a:off x="3352680" y="3809880"/>
            <a:ext cx="3143520" cy="23180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5"/>
          <a:stretch/>
        </p:blipFill>
        <p:spPr>
          <a:xfrm>
            <a:off x="990720" y="1866960"/>
            <a:ext cx="5181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654" name=""/>
          <p:cNvGrpSpPr/>
          <p:nvPr/>
        </p:nvGrpSpPr>
        <p:grpSpPr>
          <a:xfrm>
            <a:off x="4299120" y="3078000"/>
            <a:ext cx="1379520" cy="595440"/>
            <a:chOff x="4299120" y="3078000"/>
            <a:chExt cx="1379520" cy="595440"/>
          </a:xfrm>
        </p:grpSpPr>
        <p:sp>
          <p:nvSpPr>
            <p:cNvPr id="655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  </a:t>
              </a:r>
              <a:r>
                <a:rPr b="0" lang="en-US" sz="33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</a:t>
              </a: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                                     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57" name="" descr="Oxfam logo"/>
          <p:cNvPicPr/>
          <p:nvPr/>
        </p:nvPicPr>
        <p:blipFill>
          <a:blip r:embed="rId6"/>
          <a:stretch/>
        </p:blipFill>
        <p:spPr>
          <a:xfrm>
            <a:off x="4419720" y="3124080"/>
            <a:ext cx="1131840" cy="5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Next Page"/>
          <p:cNvPicPr/>
          <p:nvPr/>
        </p:nvPicPr>
        <p:blipFill>
          <a:blip r:embed="rId1"/>
          <a:stretch/>
        </p:blipFill>
        <p:spPr>
          <a:xfrm>
            <a:off x="-108000" y="-27000"/>
            <a:ext cx="9468000" cy="703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84218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o los acuerdos comercial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no son suficientes..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comerciar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ntajas comparativas y especializ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mercados más amplios: fundamental para economías pequeñas 1, 2,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productos de mayor calidad y menores pre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acto con avances tecnológicos y científ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jores sueldos y calidad de empl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98480" y="51120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50480" y="1993680"/>
            <a:ext cx="80931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ficiencia Púb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lan para reducir el Gasto Público: Reducir el tamaño del Estado privatizando empresas estat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Reforma tributaria orientada a eliminar impuestos antitécnicos: (ITF, IES) y ampliar base tribut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Facilitación de Comer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romover las concesiones de infraestructura: Puertos, aeropuertos y carreter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Criterio recaudador vs. facilitador de SUNA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5867280" y="502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olítica arancel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Eliminar cambios arancelarios a pedid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Arancel bajo y plan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Verdana"/>
              </a:rPr>
              <a:t>Refor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Educación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Productividad en el Agr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Acceso Mercados: TLC con EE.UU., UE y AP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Formar una base institucional sólida que permita la unificación de esfuerzos: Congreso – Ejecutivo – Sector Pri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2529360" y="521028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ropiedad Intelectual y Biodiversidad - Planteamient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Implementación de medidas de manera que se exija al solicitante de una patente relativa a materiales biológicos o a conocimientos tradicion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divulgación de la fuente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 el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país de origen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l recurso biológico y de los conocimientos tradicionales utilizados en la inven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ruebas del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consentimiento fundamentado previo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mediante la aprobación de las autoridades en el marco de los regímenes nacionales pertin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ropiedad Intelectual y Biodiversidad - Planteamient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rueba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distribución justa y equitativ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 los beneficios conforme al régimen nacional del país de orig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sultados esperad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Prevención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biopiraterí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apropiación indebid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, evitar “patentes indebidas”, concedidas sin el apropiado examen del uso anterior del recurso y de los conocimientos previos al respe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ermitir a la oficina de patentes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confirmar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más eficazmente 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“actividad inventiva”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reivindicada en una determinada solicitud de pat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sultados esperad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Aumentar la capacidad de los países de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seguir la pista de las patentes indebidas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, cuando se las conceda, e  impugnar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Mejorar el cumplimiento de sus leyes nacionales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sobre el consentimiento fundamentado previo y la distribución justa y equitativa de los beneficios, antes del acceso a los recursos biológicos o los conocimientos tradicionales conex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1987920" y="2060640"/>
            <a:ext cx="4703040" cy="4361040"/>
            <a:chOff x="1987920" y="2060640"/>
            <a:chExt cx="4703040" cy="4361040"/>
          </a:xfrm>
        </p:grpSpPr>
        <p:sp>
          <p:nvSpPr>
            <p:cNvPr id="681" name=""/>
            <p:cNvSpPr/>
            <p:nvPr/>
          </p:nvSpPr>
          <p:spPr>
            <a:xfrm>
              <a:off x="2394360" y="2060640"/>
              <a:ext cx="4053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Exportaciones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n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o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t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radicion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millones de US$, promedio móvil últimos 12 meses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124080" y="3346560"/>
              <a:ext cx="19454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Periodo de incertidumbre previa a extensión del ATPDE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178160" y="4422600"/>
              <a:ext cx="1053360" cy="533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5150880" y="2530080"/>
              <a:ext cx="0" cy="335268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150880" y="4879800"/>
              <a:ext cx="15400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ATPDEA incluye confecciones y otros product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096800" y="4041720"/>
              <a:ext cx="2430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150880" y="5489640"/>
              <a:ext cx="121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1987920" y="2554200"/>
              <a:ext cx="4566240" cy="3867480"/>
              <a:chOff x="1987920" y="2554200"/>
              <a:chExt cx="4566240" cy="3867480"/>
            </a:xfrm>
          </p:grpSpPr>
          <p:sp>
            <p:nvSpPr>
              <p:cNvPr id="689" name=""/>
              <p:cNvSpPr/>
              <p:nvPr/>
            </p:nvSpPr>
            <p:spPr>
              <a:xfrm>
                <a:off x="2469960" y="2641680"/>
                <a:ext cx="1800" cy="3220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424600" y="58626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424600" y="55069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424600" y="515124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424600" y="47862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424600" y="44305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424600" y="40752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424600" y="37177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424600" y="335268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24600" y="29970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424600" y="264168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469960" y="5862600"/>
                <a:ext cx="408240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24699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25498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26305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2710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27910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2870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29516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3030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31122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31932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3272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33537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3432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35143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3593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3674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3754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3834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39142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399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4074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415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235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431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4395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476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4546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462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4706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478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4866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494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5027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5106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5187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5267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5348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5429160" y="5862240"/>
                <a:ext cx="1800" cy="44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5509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5589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56689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5750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58294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5910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59900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60710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V="1">
                <a:off x="6150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V="1">
                <a:off x="6231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63111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>
                <a:off x="6392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64713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65527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469960" y="552924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549880" y="544356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630520" y="54100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710080" y="53560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791080" y="5346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870640" y="529272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951640" y="5216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030840" y="5151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12200" y="5238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93200" y="5130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72400" y="5097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353760" y="51084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432960" y="5054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514320" y="5022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593520" y="4968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674520" y="493704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754080" y="4860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34720" y="490356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914280" y="475308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95280" y="47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4840" y="4624200"/>
                <a:ext cx="6876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155840" y="47098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235400" y="47098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316400" y="46879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4395960" y="472104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47660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557960" y="4763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63716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718520" y="47750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797720" y="462420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878720" y="4753080"/>
                <a:ext cx="673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95828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039280" y="4709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118480" y="463536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199840" y="45910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279040" y="446256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360040" y="4397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439600" y="4343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520600" y="4235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600160" y="418140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680800" y="411804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760720" y="409572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841360" y="4010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922720" y="390204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001920" y="3794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082920" y="36972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162480" y="35352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243480" y="346068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322680" y="32767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404040" y="30938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83240" y="29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V="1">
                <a:off x="2504160" y="5497560"/>
                <a:ext cx="572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561760" y="546408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2664720" y="544320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710080" y="538956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2813400" y="5367240"/>
                <a:ext cx="46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860560" y="531324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963520" y="5248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3066480" y="522720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123720" y="5162400"/>
                <a:ext cx="91080" cy="651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3215160" y="514152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272400" y="507672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4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375720" y="5033880"/>
                <a:ext cx="91080" cy="428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V="1">
                <a:off x="3466800" y="5000040"/>
                <a:ext cx="572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524040" y="4957560"/>
                <a:ext cx="1047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3629160" y="493668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674520" y="490356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777840" y="487188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3880800" y="486036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926160" y="482904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4029480" y="481752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074840" y="4806720"/>
                <a:ext cx="102960" cy="1116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177800" y="4786200"/>
                <a:ext cx="104400" cy="205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282560" y="478620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339800" y="477504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4431240" y="4763520"/>
                <a:ext cx="572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488480" y="4753080"/>
                <a:ext cx="102960" cy="10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4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591440" y="474192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4682880" y="4731840"/>
                <a:ext cx="572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740120" y="4709880"/>
                <a:ext cx="102960" cy="223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4843440" y="4699080"/>
                <a:ext cx="453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888800" y="4678200"/>
                <a:ext cx="104760" cy="208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4993920" y="4635360"/>
                <a:ext cx="1029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5096880" y="462384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142240" y="457020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5245560" y="4547880"/>
                <a:ext cx="4536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290920" y="4483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393880" y="440856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5" y="4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5497200" y="4365360"/>
                <a:ext cx="572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554440" y="4278240"/>
                <a:ext cx="92520" cy="87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5647320" y="4225680"/>
                <a:ext cx="572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704560" y="4106880"/>
                <a:ext cx="102960" cy="1191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1"/>
                    </a:moveTo>
                    <a:lnTo>
                      <a:pt x="4" y="6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807520" y="3987720"/>
                <a:ext cx="91080" cy="119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11"/>
                    </a:moveTo>
                    <a:lnTo>
                      <a:pt x="4" y="6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V="1">
                <a:off x="5898960" y="3912840"/>
                <a:ext cx="5724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956200" y="3771720"/>
                <a:ext cx="102960" cy="1414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13"/>
                    </a:moveTo>
                    <a:lnTo>
                      <a:pt x="4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V="1">
                <a:off x="6059160" y="3696840"/>
                <a:ext cx="4536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104880" y="3535200"/>
                <a:ext cx="102960" cy="1620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5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207840" y="3362400"/>
                <a:ext cx="102960" cy="1728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4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V="1">
                <a:off x="6311160" y="3265200"/>
                <a:ext cx="4716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358320" y="3093840"/>
                <a:ext cx="102960" cy="17172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5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V="1">
                <a:off x="6461640" y="2996640"/>
                <a:ext cx="5724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987920" y="57769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5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987920" y="54212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6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987920" y="50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7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987920" y="46990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8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987920" y="43434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9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987920" y="39877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0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987920" y="36320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1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987920" y="32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2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987920" y="29098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3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987920" y="25542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4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00000">
                <a:off x="226548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200000">
                <a:off x="267912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200000">
                <a:off x="300852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6200000">
                <a:off x="322812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6200000">
                <a:off x="364176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6200000">
                <a:off x="397440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6200000">
                <a:off x="419580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6200000">
                <a:off x="460944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6200000">
                <a:off x="493884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6200000">
                <a:off x="515700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3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6200000">
                <a:off x="5570640" y="6027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6200000">
                <a:off x="5901840" y="60242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6200000">
                <a:off x="612108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4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7" name=""/>
          <p:cNvSpPr/>
          <p:nvPr/>
        </p:nvSpPr>
        <p:spPr>
          <a:xfrm>
            <a:off x="1828800" y="647712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IP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4800" y="304560"/>
            <a:ext cx="8070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58920" y="1987560"/>
            <a:ext cx="6697440" cy="4536720"/>
            <a:chOff x="1258920" y="1987560"/>
            <a:chExt cx="6697440" cy="45367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1258920" y="2580480"/>
              <a:ext cx="6697440" cy="39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000880" y="1987560"/>
              <a:ext cx="569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Verdana"/>
                </a:rPr>
                <a:t>Evolución del promedio arancelar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00680" y="3896280"/>
              <a:ext cx="2567160" cy="104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598040" y="6553080"/>
            <a:ext cx="21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MEF</a:t>
            </a: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>
            <a:off x="1905120" y="6400800"/>
            <a:ext cx="723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963360" y="4062240"/>
            <a:ext cx="2372040" cy="2168640"/>
            <a:chOff x="963360" y="4062240"/>
            <a:chExt cx="2372040" cy="2168640"/>
          </a:xfrm>
        </p:grpSpPr>
        <p:sp>
          <p:nvSpPr>
            <p:cNvPr id="883" name=""/>
            <p:cNvSpPr/>
            <p:nvPr/>
          </p:nvSpPr>
          <p:spPr>
            <a:xfrm>
              <a:off x="1002960" y="5864400"/>
              <a:ext cx="213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* Proyecciones MMM</a:t>
              </a:r>
              <a:r>
                <a:rPr b="1" lang="es-MX" sz="800" spc="-1" strike="noStrike">
                  <a:solidFill>
                    <a:srgbClr val="ffffff"/>
                  </a:solidFill>
                  <a:latin typeface="Verdana"/>
                </a:rPr>
                <a:t> 2005 – 2007 Revisad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63360" y="6108840"/>
              <a:ext cx="2097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SUNAT. 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995480" y="4062240"/>
              <a:ext cx="3240" cy="2098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8720" y="4062240"/>
              <a:ext cx="3240" cy="2098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1960" y="4062240"/>
              <a:ext cx="46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00664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00988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11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1456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1780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01924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02248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25720" y="4062240"/>
              <a:ext cx="32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28960" y="4062240"/>
              <a:ext cx="14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03040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33640" y="4062240"/>
              <a:ext cx="32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036880" y="4062240"/>
              <a:ext cx="14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38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04156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04480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04624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4948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52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05416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05740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060640" y="4062240"/>
              <a:ext cx="32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063880" y="4062240"/>
              <a:ext cx="14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65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06856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7324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079720" y="4062240"/>
              <a:ext cx="1440" cy="2098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08116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08764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092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095560" y="4062240"/>
              <a:ext cx="32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098800" y="4062240"/>
              <a:ext cx="14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10024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10348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106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10816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1140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1464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1608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119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22560" y="4062240"/>
              <a:ext cx="32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125800" y="4062240"/>
              <a:ext cx="14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2724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130480" y="4062240"/>
              <a:ext cx="32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133720" y="4062240"/>
              <a:ext cx="14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13516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13840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14164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14308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146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14956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15100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154240" y="4062240"/>
              <a:ext cx="64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998720" y="4064040"/>
              <a:ext cx="166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16320" y="4129200"/>
              <a:ext cx="144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1776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42100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4256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42892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32160" y="4129200"/>
              <a:ext cx="14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3360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36840" y="4129200"/>
              <a:ext cx="32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40080" y="4129200"/>
              <a:ext cx="14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4152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44476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4800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51240" y="4129200"/>
              <a:ext cx="14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52680" y="4129200"/>
              <a:ext cx="32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5592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59160" y="4129200"/>
              <a:ext cx="14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60600" y="4129200"/>
              <a:ext cx="3240" cy="14292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3840" y="4129200"/>
              <a:ext cx="32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67080" y="4129200"/>
              <a:ext cx="14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6852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471760" y="4129200"/>
              <a:ext cx="32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475000" y="4129200"/>
              <a:ext cx="14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47644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479680" y="4129200"/>
              <a:ext cx="32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48292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486160" y="4129200"/>
              <a:ext cx="14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487600" y="4129200"/>
              <a:ext cx="32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49084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94080" y="4129200"/>
              <a:ext cx="46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498760" y="4129200"/>
              <a:ext cx="46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03440" y="4129200"/>
              <a:ext cx="64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0992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13160" y="4129200"/>
              <a:ext cx="14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14600" y="4129200"/>
              <a:ext cx="32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17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21080" y="4129200"/>
              <a:ext cx="14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2252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25760" y="4129200"/>
              <a:ext cx="32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529000" y="4129200"/>
              <a:ext cx="14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53044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533680" y="4129200"/>
              <a:ext cx="32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536920" y="4129200"/>
              <a:ext cx="14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3836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541600" y="4129200"/>
              <a:ext cx="32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4484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48080" y="4129200"/>
              <a:ext cx="14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549520" y="4129200"/>
              <a:ext cx="32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552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556000" y="4129200"/>
              <a:ext cx="14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55744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560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563920" y="4129200"/>
              <a:ext cx="14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56536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56860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571840" y="4129200"/>
              <a:ext cx="14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5732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576520" y="4129200"/>
              <a:ext cx="64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417760" y="4132440"/>
              <a:ext cx="1699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838600" y="4175280"/>
              <a:ext cx="1440" cy="968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4175280"/>
              <a:ext cx="3240" cy="9684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84328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4796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5120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54440" y="4175280"/>
              <a:ext cx="14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855880" y="4175280"/>
              <a:ext cx="32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85912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62360" y="4175280"/>
              <a:ext cx="14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863800" y="4175280"/>
              <a:ext cx="32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67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87028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87352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87496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87820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881440" y="4175280"/>
              <a:ext cx="14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882880" y="4175280"/>
              <a:ext cx="32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88612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889360" y="4175280"/>
              <a:ext cx="14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890800" y="4175280"/>
              <a:ext cx="32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894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89728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90052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90196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90520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908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0988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91636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21040" y="4175280"/>
              <a:ext cx="3240" cy="9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2428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92896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35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3688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4012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4336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4480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948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51280" y="4175280"/>
              <a:ext cx="14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52720" y="4175280"/>
              <a:ext cx="32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5596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959200" y="4175280"/>
              <a:ext cx="14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960640" y="4175280"/>
              <a:ext cx="32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96388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96712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97036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97180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975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978280" y="4175280"/>
              <a:ext cx="14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979720" y="4175280"/>
              <a:ext cx="32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98296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986200" y="4175280"/>
              <a:ext cx="14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987640" y="4175280"/>
              <a:ext cx="32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99088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99412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99736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840040" y="4178160"/>
              <a:ext cx="1666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57640" y="4232160"/>
              <a:ext cx="324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60880" y="4232160"/>
              <a:ext cx="144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262320" y="4232160"/>
              <a:ext cx="64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68800" y="4232160"/>
              <a:ext cx="14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7024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27348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7672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27816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2814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284640" y="4232160"/>
              <a:ext cx="32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287880" y="4232160"/>
              <a:ext cx="14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28932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292560" y="4232160"/>
              <a:ext cx="32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295800" y="4232160"/>
              <a:ext cx="14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29724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30048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303720" y="4232160"/>
              <a:ext cx="1440" cy="3996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30516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3084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31164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31308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31632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319560" y="4232160"/>
              <a:ext cx="32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322800" y="4232160"/>
              <a:ext cx="14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32424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27480" y="4232160"/>
              <a:ext cx="32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330720" y="4232160"/>
              <a:ext cx="14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3216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3260880" y="4232160"/>
            <a:ext cx="1430280" cy="182520"/>
            <a:chOff x="3260880" y="4232160"/>
            <a:chExt cx="1430280" cy="182520"/>
          </a:xfrm>
        </p:grpSpPr>
        <p:sp>
          <p:nvSpPr>
            <p:cNvPr id="1084" name=""/>
            <p:cNvSpPr/>
            <p:nvPr/>
          </p:nvSpPr>
          <p:spPr>
            <a:xfrm>
              <a:off x="333540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40080" y="4232160"/>
              <a:ext cx="648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3465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35124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354480" y="4232160"/>
              <a:ext cx="32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57720" y="4232160"/>
              <a:ext cx="14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5916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362400" y="4232160"/>
              <a:ext cx="32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65640" y="4232160"/>
              <a:ext cx="14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36708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7032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37356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3750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7824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38148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384720" y="4232160"/>
              <a:ext cx="14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38616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389400" y="4232160"/>
              <a:ext cx="32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392640" y="4232160"/>
              <a:ext cx="14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394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39732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400560" y="4232160"/>
              <a:ext cx="14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4020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40524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40848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0992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41316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41640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41964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260880" y="4233960"/>
              <a:ext cx="16812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679920" y="4272120"/>
              <a:ext cx="3240" cy="4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683160" y="4272120"/>
              <a:ext cx="1440" cy="4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684600" y="4272120"/>
              <a:ext cx="64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691080" y="4272120"/>
              <a:ext cx="14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69252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695760" y="4272120"/>
              <a:ext cx="32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699000" y="4272120"/>
              <a:ext cx="14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70044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03680" y="4272120"/>
              <a:ext cx="32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70692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710160" y="4272120"/>
              <a:ext cx="14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711600" y="4272120"/>
              <a:ext cx="32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71484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18080" y="4272120"/>
              <a:ext cx="14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19520" y="4272120"/>
              <a:ext cx="32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22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26000" y="4272120"/>
              <a:ext cx="14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72744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730680" y="4272120"/>
              <a:ext cx="32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733920" y="4272120"/>
              <a:ext cx="14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735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738600" y="4272120"/>
              <a:ext cx="32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74184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745080" y="4272120"/>
              <a:ext cx="14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746520" y="4272120"/>
              <a:ext cx="32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749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75300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757680" y="4272120"/>
              <a:ext cx="46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762360" y="4272120"/>
              <a:ext cx="3240" cy="4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765600" y="4272120"/>
              <a:ext cx="64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77208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776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780000" y="4272120"/>
              <a:ext cx="14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781440" y="4272120"/>
              <a:ext cx="32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78468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787920" y="4272120"/>
              <a:ext cx="14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789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792600" y="4272120"/>
              <a:ext cx="32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795840" y="4272120"/>
              <a:ext cx="14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79728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800520" y="4272120"/>
              <a:ext cx="32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803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807000" y="4272120"/>
              <a:ext cx="14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808440" y="4272120"/>
              <a:ext cx="32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81168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814920" y="4272120"/>
              <a:ext cx="14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816360" y="4272120"/>
              <a:ext cx="32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81960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822840" y="4272120"/>
              <a:ext cx="14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82428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827520" y="4272120"/>
              <a:ext cx="32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830760" y="4272120"/>
              <a:ext cx="14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83220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835440" y="4272120"/>
              <a:ext cx="32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838680" y="4272120"/>
              <a:ext cx="46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683160" y="4275000"/>
              <a:ext cx="166680" cy="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098960" y="4272120"/>
              <a:ext cx="3240" cy="139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102200" y="4272120"/>
              <a:ext cx="3240" cy="139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105440" y="4272120"/>
              <a:ext cx="46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110120" y="4272120"/>
              <a:ext cx="324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113360" y="4272120"/>
              <a:ext cx="144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114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1804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2128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2272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12596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129200" y="4272120"/>
              <a:ext cx="32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132440" y="4272120"/>
              <a:ext cx="14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3388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37120" y="4272120"/>
              <a:ext cx="32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140360" y="4272120"/>
              <a:ext cx="14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41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14504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14828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14972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5296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156200" y="4272120"/>
              <a:ext cx="288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159080" y="4272120"/>
              <a:ext cx="180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16088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164120" y="4272120"/>
              <a:ext cx="32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167360" y="4272120"/>
              <a:ext cx="14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168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17204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17672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183200" y="4272120"/>
              <a:ext cx="1440" cy="139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18464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19112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195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199040" y="4272120"/>
              <a:ext cx="32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02280" y="4272120"/>
              <a:ext cx="14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0372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06960" y="4272120"/>
              <a:ext cx="324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10200" y="4272120"/>
              <a:ext cx="144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21164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21488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21812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1956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222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26040" y="4272120"/>
              <a:ext cx="32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229280" y="4272120"/>
              <a:ext cx="14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23072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233960" y="4272120"/>
              <a:ext cx="32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237200" y="4272120"/>
              <a:ext cx="14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23864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24188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24512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24656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249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253040" y="4272120"/>
              <a:ext cx="288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255920" y="4272120"/>
              <a:ext cx="180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257720" y="4272120"/>
              <a:ext cx="64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102200" y="4275000"/>
              <a:ext cx="166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519440" y="4272120"/>
              <a:ext cx="1800" cy="112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521240" y="4272120"/>
              <a:ext cx="3240" cy="112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524480" y="4272120"/>
              <a:ext cx="46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529160" y="4272120"/>
              <a:ext cx="324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532400" y="4272120"/>
              <a:ext cx="324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535640" y="4272120"/>
              <a:ext cx="14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53708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540320" y="4272120"/>
              <a:ext cx="32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543560" y="4272120"/>
              <a:ext cx="288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546440" y="4272120"/>
              <a:ext cx="180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548240" y="4272120"/>
              <a:ext cx="32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551480" y="4272120"/>
              <a:ext cx="288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554360" y="4272120"/>
              <a:ext cx="180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56160" y="4272120"/>
              <a:ext cx="324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559400" y="4272120"/>
              <a:ext cx="324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562640" y="4272120"/>
              <a:ext cx="14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564080" y="4272120"/>
              <a:ext cx="3240" cy="112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567320" y="4272120"/>
              <a:ext cx="324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70560" y="4272120"/>
              <a:ext cx="14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57200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575240" y="4272120"/>
              <a:ext cx="32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578480" y="4272120"/>
              <a:ext cx="288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581360" y="4272120"/>
              <a:ext cx="180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583160" y="4272120"/>
              <a:ext cx="32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58640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589640" y="4272120"/>
              <a:ext cx="14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591080" y="4272120"/>
              <a:ext cx="324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594320" y="4272120"/>
              <a:ext cx="324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597560" y="4272120"/>
              <a:ext cx="46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602240" y="4272120"/>
              <a:ext cx="4680" cy="112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606920" y="4272120"/>
              <a:ext cx="64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613400" y="4272120"/>
              <a:ext cx="288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616280" y="4272120"/>
              <a:ext cx="180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18080" y="4272120"/>
              <a:ext cx="32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62132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24560" y="4272120"/>
              <a:ext cx="14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626000" y="4272120"/>
              <a:ext cx="324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629240" y="4272120"/>
              <a:ext cx="324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632480" y="4272120"/>
              <a:ext cx="14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63392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637160" y="4272120"/>
              <a:ext cx="32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640400" y="4272120"/>
              <a:ext cx="288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643280" y="4272120"/>
              <a:ext cx="1800" cy="112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645080" y="4272120"/>
              <a:ext cx="32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648320" y="4272120"/>
              <a:ext cx="288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651200" y="4272120"/>
              <a:ext cx="180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653000" y="4272120"/>
              <a:ext cx="324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656240" y="4272120"/>
              <a:ext cx="324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659480" y="4272120"/>
              <a:ext cx="14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660920" y="4272120"/>
              <a:ext cx="324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664160" y="4272120"/>
              <a:ext cx="324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667400" y="4272120"/>
              <a:ext cx="14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66884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672080" y="4272120"/>
              <a:ext cx="32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675320" y="4272120"/>
              <a:ext cx="288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678200" y="4272120"/>
              <a:ext cx="180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680000" y="4272120"/>
              <a:ext cx="64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521240" y="4275000"/>
              <a:ext cx="1699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4" name=""/>
          <p:cNvGrpSpPr/>
          <p:nvPr/>
        </p:nvGrpSpPr>
        <p:grpSpPr>
          <a:xfrm>
            <a:off x="4941720" y="4218120"/>
            <a:ext cx="1352880" cy="223560"/>
            <a:chOff x="4941720" y="4218120"/>
            <a:chExt cx="1352880" cy="223560"/>
          </a:xfrm>
        </p:grpSpPr>
        <p:sp>
          <p:nvSpPr>
            <p:cNvPr id="1285" name=""/>
            <p:cNvSpPr/>
            <p:nvPr/>
          </p:nvSpPr>
          <p:spPr>
            <a:xfrm>
              <a:off x="4941720" y="4272120"/>
              <a:ext cx="1800" cy="727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943520" y="4272120"/>
              <a:ext cx="3240" cy="727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946760" y="4272120"/>
              <a:ext cx="468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951440" y="4272120"/>
              <a:ext cx="324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95468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957920" y="4272120"/>
              <a:ext cx="14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959360" y="4272120"/>
              <a:ext cx="32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96260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965840" y="4272120"/>
              <a:ext cx="288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68720" y="4272120"/>
              <a:ext cx="180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70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973760" y="4272120"/>
              <a:ext cx="288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97664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978440" y="4272120"/>
              <a:ext cx="324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98168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984920" y="4272120"/>
              <a:ext cx="144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986360" y="4272120"/>
              <a:ext cx="324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98960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992840" y="4272120"/>
              <a:ext cx="14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994280" y="4272120"/>
              <a:ext cx="32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997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00760" y="4272120"/>
              <a:ext cx="288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03640" y="4272120"/>
              <a:ext cx="180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0544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08680" y="4272120"/>
              <a:ext cx="288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011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013360" y="4272120"/>
              <a:ext cx="648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1984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24520" y="4272120"/>
              <a:ext cx="3240" cy="72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2776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32440" y="4272120"/>
              <a:ext cx="612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38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40360" y="4272120"/>
              <a:ext cx="324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4360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046840" y="4272120"/>
              <a:ext cx="144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048280" y="4272120"/>
              <a:ext cx="324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051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54760" y="4272120"/>
              <a:ext cx="14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56200" y="4272120"/>
              <a:ext cx="32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5944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62680" y="4272120"/>
              <a:ext cx="288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065560" y="4272120"/>
              <a:ext cx="180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6736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070600" y="4272120"/>
              <a:ext cx="288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07348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075280" y="4272120"/>
              <a:ext cx="324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078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081760" y="4272120"/>
              <a:ext cx="144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083200" y="4272120"/>
              <a:ext cx="324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08644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089680" y="4272120"/>
              <a:ext cx="14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091120" y="4272120"/>
              <a:ext cx="32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09436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097600" y="4272120"/>
              <a:ext cx="288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100480" y="4272120"/>
              <a:ext cx="504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943520" y="4275000"/>
              <a:ext cx="1666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361120" y="4272120"/>
              <a:ext cx="2880" cy="166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64000" y="4272120"/>
              <a:ext cx="1800" cy="166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365800" y="4272120"/>
              <a:ext cx="648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372280" y="4272120"/>
              <a:ext cx="144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37372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376960" y="4272120"/>
              <a:ext cx="324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380200" y="4272120"/>
              <a:ext cx="144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38164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3848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388120" y="4272120"/>
              <a:ext cx="288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391000" y="4272120"/>
              <a:ext cx="180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39280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396040" y="4272120"/>
              <a:ext cx="288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398920" y="4272120"/>
              <a:ext cx="180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40072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403960" y="4272120"/>
              <a:ext cx="324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407200" y="4272120"/>
              <a:ext cx="1440" cy="166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40864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4118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415120" y="4272120"/>
              <a:ext cx="288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418000" y="4272120"/>
              <a:ext cx="180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41980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423040" y="4272120"/>
              <a:ext cx="288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25920" y="4272120"/>
              <a:ext cx="180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42772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430960" y="4272120"/>
              <a:ext cx="288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433840" y="4272120"/>
              <a:ext cx="180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43564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43888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443560" y="4272120"/>
              <a:ext cx="6480" cy="166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45004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45472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457960" y="4272120"/>
              <a:ext cx="288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460840" y="4272120"/>
              <a:ext cx="180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46264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465880" y="4272120"/>
              <a:ext cx="288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468760" y="4272120"/>
              <a:ext cx="180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47056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473800" y="4272120"/>
              <a:ext cx="324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477040" y="4272120"/>
              <a:ext cx="144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4784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48172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484960" y="4272120"/>
              <a:ext cx="2880" cy="166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487840" y="4272120"/>
              <a:ext cx="180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48964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492880" y="4272120"/>
              <a:ext cx="288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495760" y="4272120"/>
              <a:ext cx="180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49756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500800" y="4272120"/>
              <a:ext cx="324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504040" y="4272120"/>
              <a:ext cx="144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5054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50872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511960" y="4272120"/>
              <a:ext cx="288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514840" y="4272120"/>
              <a:ext cx="180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51664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519880" y="4272120"/>
              <a:ext cx="288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522760" y="4272120"/>
              <a:ext cx="504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364000" y="4275000"/>
              <a:ext cx="1684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783400" y="4232160"/>
              <a:ext cx="288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786280" y="4232160"/>
              <a:ext cx="180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788080" y="4232160"/>
              <a:ext cx="612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794200" y="4232160"/>
              <a:ext cx="180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79600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79924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802480" y="4232160"/>
              <a:ext cx="288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05360" y="4232160"/>
              <a:ext cx="180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80716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81040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813280" y="4232160"/>
              <a:ext cx="180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815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81832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21200" y="4232160"/>
              <a:ext cx="180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23000" y="4232160"/>
              <a:ext cx="324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2624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829480" y="4232160"/>
              <a:ext cx="14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830920" y="4232160"/>
              <a:ext cx="324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834160" y="4232160"/>
              <a:ext cx="324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837400" y="4232160"/>
              <a:ext cx="288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840280" y="4232160"/>
              <a:ext cx="180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842080" y="4232160"/>
              <a:ext cx="324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84532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848200" y="4232160"/>
              <a:ext cx="180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85000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853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85612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8611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865840" y="4232160"/>
              <a:ext cx="324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869080" y="4232160"/>
              <a:ext cx="612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87520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880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883120" y="4232160"/>
              <a:ext cx="180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884920" y="4232160"/>
              <a:ext cx="324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88816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891040" y="4232160"/>
              <a:ext cx="180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892840" y="4232160"/>
              <a:ext cx="324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896080" y="4232160"/>
              <a:ext cx="32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899320" y="4232160"/>
              <a:ext cx="288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902200" y="4232160"/>
              <a:ext cx="180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90400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907240" y="4232160"/>
              <a:ext cx="288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910120" y="4232160"/>
              <a:ext cx="180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911920" y="4232160"/>
              <a:ext cx="324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91516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918040" y="4232160"/>
              <a:ext cx="180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91984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92308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925960" y="4232160"/>
              <a:ext cx="180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927760" y="4232160"/>
              <a:ext cx="324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931000" y="4232160"/>
              <a:ext cx="324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934240" y="4232160"/>
              <a:ext cx="288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937120" y="4232160"/>
              <a:ext cx="180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93892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94216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786280" y="4233960"/>
              <a:ext cx="16668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202440" y="4218120"/>
              <a:ext cx="3240" cy="5400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205680" y="4218120"/>
              <a:ext cx="2880" cy="5400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208560" y="4218120"/>
              <a:ext cx="504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213600" y="4218120"/>
              <a:ext cx="288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216480" y="4218120"/>
              <a:ext cx="180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218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22152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224760" y="4218120"/>
              <a:ext cx="288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227640" y="4218120"/>
              <a:ext cx="180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22944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232680" y="4218120"/>
              <a:ext cx="288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235560" y="4218120"/>
              <a:ext cx="180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23736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40600" y="4218120"/>
              <a:ext cx="288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243480" y="4218120"/>
              <a:ext cx="180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245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248520" y="4218120"/>
              <a:ext cx="288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251400" y="4218120"/>
              <a:ext cx="180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25320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25644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259680" y="4218120"/>
              <a:ext cx="288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262560" y="4218120"/>
              <a:ext cx="180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26436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267600" y="4218120"/>
              <a:ext cx="288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270480" y="4218120"/>
              <a:ext cx="180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272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27552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280200" y="4218120"/>
              <a:ext cx="648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286680" y="4218120"/>
              <a:ext cx="2880" cy="540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289560" y="4218120"/>
              <a:ext cx="504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5" name=""/>
          <p:cNvGrpSpPr/>
          <p:nvPr/>
        </p:nvGrpSpPr>
        <p:grpSpPr>
          <a:xfrm>
            <a:off x="6205680" y="3895560"/>
            <a:ext cx="1685880" cy="379440"/>
            <a:chOff x="6205680" y="3895560"/>
            <a:chExt cx="1685880" cy="379440"/>
          </a:xfrm>
        </p:grpSpPr>
        <p:sp>
          <p:nvSpPr>
            <p:cNvPr id="1486" name=""/>
            <p:cNvSpPr/>
            <p:nvPr/>
          </p:nvSpPr>
          <p:spPr>
            <a:xfrm>
              <a:off x="629460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299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302520" y="4218120"/>
              <a:ext cx="288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305400" y="4218120"/>
              <a:ext cx="180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30720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310440" y="4218120"/>
              <a:ext cx="288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313320" y="4218120"/>
              <a:ext cx="180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31512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31836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321600" y="4218120"/>
              <a:ext cx="288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324480" y="4218120"/>
              <a:ext cx="180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326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329520" y="4218120"/>
              <a:ext cx="288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332400" y="4218120"/>
              <a:ext cx="180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33420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337440" y="4218120"/>
              <a:ext cx="288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340320" y="4218120"/>
              <a:ext cx="180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34212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345360" y="4218120"/>
              <a:ext cx="288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348240" y="4218120"/>
              <a:ext cx="180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35004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353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356520" y="4218120"/>
              <a:ext cx="288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359400" y="4218120"/>
              <a:ext cx="180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361200" y="4218120"/>
              <a:ext cx="612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205680" y="4221000"/>
              <a:ext cx="16668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622920" y="4199040"/>
              <a:ext cx="1800" cy="730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624720" y="4199040"/>
              <a:ext cx="3240" cy="730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627960" y="4199040"/>
              <a:ext cx="468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32640" y="4199040"/>
              <a:ext cx="324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63588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638760" y="4199040"/>
              <a:ext cx="180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640560" y="4199040"/>
              <a:ext cx="324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64380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6470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649920" y="4199040"/>
              <a:ext cx="180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651720" y="4199040"/>
              <a:ext cx="324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65496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657840" y="4199040"/>
              <a:ext cx="180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659640" y="4199040"/>
              <a:ext cx="324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66288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665760" y="4199040"/>
              <a:ext cx="180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667560" y="4199040"/>
              <a:ext cx="3240" cy="730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67080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67368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676920" y="4199040"/>
              <a:ext cx="180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678720" y="4199040"/>
              <a:ext cx="324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68196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684840" y="4199040"/>
              <a:ext cx="180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686640" y="4199040"/>
              <a:ext cx="324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68988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692760" y="4199040"/>
              <a:ext cx="180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694560" y="4199040"/>
              <a:ext cx="324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69780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70068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705720" y="4199040"/>
              <a:ext cx="6120" cy="730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71184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1688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719760" y="4199040"/>
              <a:ext cx="180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721560" y="4199040"/>
              <a:ext cx="324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72480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727680" y="4199040"/>
              <a:ext cx="180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729480" y="4199040"/>
              <a:ext cx="324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73272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735600" y="4199040"/>
              <a:ext cx="180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737400" y="4199040"/>
              <a:ext cx="324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74064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74388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746760" y="4199040"/>
              <a:ext cx="1800" cy="730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748560" y="4199040"/>
              <a:ext cx="324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75180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754680" y="4199040"/>
              <a:ext cx="180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756480" y="4199040"/>
              <a:ext cx="324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75972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762600" y="4199040"/>
              <a:ext cx="180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764400" y="4199040"/>
              <a:ext cx="324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7676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77052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773760" y="4199040"/>
              <a:ext cx="180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775560" y="4199040"/>
              <a:ext cx="324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77880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781680" y="4199040"/>
              <a:ext cx="180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783480" y="4199040"/>
              <a:ext cx="612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624720" y="4202280"/>
              <a:ext cx="16992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045200" y="4129200"/>
              <a:ext cx="180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04700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05024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05492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058160" y="4129200"/>
              <a:ext cx="288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6104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064280" y="4129200"/>
              <a:ext cx="180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06608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6896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07220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07400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077240" y="4129200"/>
              <a:ext cx="288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08012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081920" y="4129200"/>
              <a:ext cx="324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085160" y="4129200"/>
              <a:ext cx="288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088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08984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09308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095960" y="4129200"/>
              <a:ext cx="324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099200" y="4129200"/>
              <a:ext cx="180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101000" y="4129200"/>
              <a:ext cx="324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104240" y="4129200"/>
              <a:ext cx="288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10712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108920" y="4129200"/>
              <a:ext cx="324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112160" y="4129200"/>
              <a:ext cx="288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115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11684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12296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128000" y="4129200"/>
              <a:ext cx="28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13088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13592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142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143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147080" y="4129200"/>
              <a:ext cx="288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14996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151760" y="4129200"/>
              <a:ext cx="324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155000" y="4129200"/>
              <a:ext cx="288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15788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161120" y="4129200"/>
              <a:ext cx="180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16292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16580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169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170840" y="4129200"/>
              <a:ext cx="324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174080" y="4129200"/>
              <a:ext cx="288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17696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178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182000" y="4129200"/>
              <a:ext cx="288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18488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186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18992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192800" y="4129200"/>
              <a:ext cx="324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196040" y="4129200"/>
              <a:ext cx="180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19784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201080" y="4129200"/>
              <a:ext cx="288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203960" y="4129200"/>
              <a:ext cx="504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047000" y="4132440"/>
              <a:ext cx="16668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464600" y="4078440"/>
              <a:ext cx="2880" cy="193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467480" y="4078440"/>
              <a:ext cx="1800" cy="193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469280" y="4078440"/>
              <a:ext cx="612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475400" y="4078440"/>
              <a:ext cx="180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477200" y="4078440"/>
              <a:ext cx="324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480440" y="4078440"/>
              <a:ext cx="288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48332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486560" y="4078440"/>
              <a:ext cx="180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488360" y="4078440"/>
              <a:ext cx="288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491240" y="4078440"/>
              <a:ext cx="324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494480" y="4078440"/>
              <a:ext cx="180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49628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499520" y="4078440"/>
              <a:ext cx="288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502400" y="4078440"/>
              <a:ext cx="180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50420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507440" y="4078440"/>
              <a:ext cx="288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510320" y="4078440"/>
              <a:ext cx="1800" cy="193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512120" y="4078440"/>
              <a:ext cx="324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515360" y="4078440"/>
              <a:ext cx="288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51824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521480" y="4078440"/>
              <a:ext cx="180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523280" y="4078440"/>
              <a:ext cx="288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526160" y="4078440"/>
              <a:ext cx="324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529400" y="4078440"/>
              <a:ext cx="180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53120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534440" y="4078440"/>
              <a:ext cx="288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537320" y="4078440"/>
              <a:ext cx="180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53912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542360" y="4078440"/>
              <a:ext cx="612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548480" y="4078440"/>
              <a:ext cx="4680" cy="193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553160" y="4078440"/>
              <a:ext cx="504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55820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561440" y="4078440"/>
              <a:ext cx="288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564320" y="4078440"/>
              <a:ext cx="180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56612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569360" y="4078440"/>
              <a:ext cx="288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572240" y="4078440"/>
              <a:ext cx="180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574040" y="4078440"/>
              <a:ext cx="324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577280" y="4078440"/>
              <a:ext cx="288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58016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583400" y="4078440"/>
              <a:ext cx="180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585200" y="4078440"/>
              <a:ext cx="288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588080" y="4078440"/>
              <a:ext cx="3240" cy="193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591320" y="4078440"/>
              <a:ext cx="180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59312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596360" y="4078440"/>
              <a:ext cx="288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599240" y="4078440"/>
              <a:ext cx="180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60104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604280" y="4078440"/>
              <a:ext cx="288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607160" y="4078440"/>
              <a:ext cx="180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608960" y="4078440"/>
              <a:ext cx="324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612200" y="4078440"/>
              <a:ext cx="288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61508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618320" y="4078440"/>
              <a:ext cx="180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620120" y="4078440"/>
              <a:ext cx="288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623000" y="4078440"/>
              <a:ext cx="324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626240" y="4078440"/>
              <a:ext cx="504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467480" y="4081320"/>
              <a:ext cx="1684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886880" y="3895560"/>
              <a:ext cx="2880" cy="3765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889760" y="3895560"/>
              <a:ext cx="1800" cy="3765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6" name=""/>
          <p:cNvSpPr/>
          <p:nvPr/>
        </p:nvSpPr>
        <p:spPr>
          <a:xfrm>
            <a:off x="7891560" y="3895560"/>
            <a:ext cx="612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7897680" y="3895560"/>
            <a:ext cx="180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7899480" y="3895560"/>
            <a:ext cx="324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7902720" y="3895560"/>
            <a:ext cx="288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7905600" y="3895560"/>
            <a:ext cx="324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790884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910640" y="3895560"/>
            <a:ext cx="288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7913520" y="3895560"/>
            <a:ext cx="324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7916760" y="3895560"/>
            <a:ext cx="180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918560" y="3895560"/>
            <a:ext cx="324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92180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7924680" y="3895560"/>
            <a:ext cx="180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926480" y="3895560"/>
            <a:ext cx="324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7929720" y="3895560"/>
            <a:ext cx="288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7932600" y="3895560"/>
            <a:ext cx="324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93584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7937640" y="3895560"/>
            <a:ext cx="288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940520" y="3895560"/>
            <a:ext cx="324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7943760" y="3895560"/>
            <a:ext cx="180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7945560" y="3895560"/>
            <a:ext cx="288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7948440" y="3895560"/>
            <a:ext cx="324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951680" y="3895560"/>
            <a:ext cx="180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7953480" y="3895560"/>
            <a:ext cx="324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956720" y="3895560"/>
            <a:ext cx="288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7959600" y="3895560"/>
            <a:ext cx="504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796464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7970760" y="3895560"/>
            <a:ext cx="1800" cy="3765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797256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7978680" y="3895560"/>
            <a:ext cx="468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7983360" y="3895560"/>
            <a:ext cx="324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7986600" y="3895560"/>
            <a:ext cx="180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7988400" y="3895560"/>
            <a:ext cx="324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7991640" y="3895560"/>
            <a:ext cx="288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7994520" y="3895560"/>
            <a:ext cx="180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7996320" y="3895560"/>
            <a:ext cx="324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7999560" y="3895560"/>
            <a:ext cx="288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8002440" y="3895560"/>
            <a:ext cx="324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800568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8007480" y="3895560"/>
            <a:ext cx="288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8010360" y="3895560"/>
            <a:ext cx="324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8013600" y="3895560"/>
            <a:ext cx="180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015400" y="3895560"/>
            <a:ext cx="324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801864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8021520" y="3895560"/>
            <a:ext cx="180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8023320" y="3895560"/>
            <a:ext cx="324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8026560" y="3895560"/>
            <a:ext cx="288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8029440" y="3895560"/>
            <a:ext cx="324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803268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8034480" y="3895560"/>
            <a:ext cx="288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8037360" y="3895560"/>
            <a:ext cx="324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8040600" y="3895560"/>
            <a:ext cx="180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8042400" y="3895560"/>
            <a:ext cx="288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8045280" y="3895560"/>
            <a:ext cx="504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7889760" y="3897360"/>
            <a:ext cx="1666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1871640" y="2413080"/>
            <a:ext cx="1440" cy="2232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812960" y="4645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1812960" y="439884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1812960" y="415116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1812960" y="390060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1812960" y="365292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1812960" y="34052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1812960" y="315900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1812960" y="29084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1812960" y="266076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1812960" y="2413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1871640" y="4275000"/>
            <a:ext cx="6310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18716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22924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2714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31338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3556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397512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 flipV="1">
            <a:off x="43959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 flipV="1">
            <a:off x="48182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 flipV="1">
            <a:off x="52372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 flipV="1">
            <a:off x="56595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 flipV="1">
            <a:off x="60786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 flipV="1">
            <a:off x="649908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 flipV="1">
            <a:off x="692136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 flipV="1">
            <a:off x="7340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 flipV="1">
            <a:off x="77630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 flipV="1">
            <a:off x="8182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2081160" y="2733840"/>
            <a:ext cx="5891400" cy="1014120"/>
          </a:xfrm>
          <a:custGeom>
            <a:avLst/>
            <a:gdLst/>
            <a:ahLst/>
            <a:rect l="l" t="t" r="r" b="b"/>
            <a:pathLst>
              <a:path w="2190" h="377">
                <a:moveTo>
                  <a:pt x="0" y="377"/>
                </a:moveTo>
                <a:lnTo>
                  <a:pt x="157" y="372"/>
                </a:lnTo>
                <a:lnTo>
                  <a:pt x="313" y="364"/>
                </a:lnTo>
                <a:lnTo>
                  <a:pt x="469" y="372"/>
                </a:lnTo>
                <a:lnTo>
                  <a:pt x="626" y="324"/>
                </a:lnTo>
                <a:lnTo>
                  <a:pt x="782" y="275"/>
                </a:lnTo>
                <a:lnTo>
                  <a:pt x="939" y="257"/>
                </a:lnTo>
                <a:lnTo>
                  <a:pt x="1095" y="214"/>
                </a:lnTo>
                <a:lnTo>
                  <a:pt x="1251" y="263"/>
                </a:lnTo>
                <a:lnTo>
                  <a:pt x="1408" y="248"/>
                </a:lnTo>
                <a:lnTo>
                  <a:pt x="1564" y="209"/>
                </a:lnTo>
                <a:lnTo>
                  <a:pt x="1721" y="208"/>
                </a:lnTo>
                <a:lnTo>
                  <a:pt x="1877" y="173"/>
                </a:lnTo>
                <a:lnTo>
                  <a:pt x="2033" y="111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2081160" y="2986200"/>
            <a:ext cx="5891400" cy="844560"/>
          </a:xfrm>
          <a:custGeom>
            <a:avLst/>
            <a:gdLst/>
            <a:ahLst/>
            <a:rect l="l" t="t" r="r" b="b"/>
            <a:pathLst>
              <a:path w="2190" h="314">
                <a:moveTo>
                  <a:pt x="0" y="314"/>
                </a:moveTo>
                <a:lnTo>
                  <a:pt x="157" y="285"/>
                </a:lnTo>
                <a:lnTo>
                  <a:pt x="313" y="260"/>
                </a:lnTo>
                <a:lnTo>
                  <a:pt x="469" y="247"/>
                </a:lnTo>
                <a:lnTo>
                  <a:pt x="626" y="182"/>
                </a:lnTo>
                <a:lnTo>
                  <a:pt x="782" y="83"/>
                </a:lnTo>
                <a:lnTo>
                  <a:pt x="939" y="74"/>
                </a:lnTo>
                <a:lnTo>
                  <a:pt x="1095" y="47"/>
                </a:lnTo>
                <a:lnTo>
                  <a:pt x="1251" y="60"/>
                </a:lnTo>
                <a:lnTo>
                  <a:pt x="1408" y="122"/>
                </a:lnTo>
                <a:lnTo>
                  <a:pt x="1564" y="89"/>
                </a:lnTo>
                <a:lnTo>
                  <a:pt x="1721" y="94"/>
                </a:lnTo>
                <a:lnTo>
                  <a:pt x="1877" y="85"/>
                </a:lnTo>
                <a:lnTo>
                  <a:pt x="2033" y="43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3512160" y="1940040"/>
            <a:ext cx="257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erú: comercio internac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4042800" y="2176560"/>
            <a:ext cx="1526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1985760" y="383688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8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240480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4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2817360" y="39495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2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323640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7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3612240" y="4346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04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4031280" y="4481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13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4450320" y="4454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92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4874400" y="441468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5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576216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6182640" y="399240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566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6602040" y="397368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42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703404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7453080" y="385272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7828560" y="3668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03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5293440" y="4508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358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1092240" y="452772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4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1092240" y="428004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2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1531800" y="403236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1145520" y="3782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1145520" y="3535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1145520" y="3287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6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1145520" y="3040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8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1035000" y="279072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0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1035000" y="254304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1035000" y="229536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 rot="16200000">
            <a:off x="187812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 rot="16200000">
            <a:off x="23004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rot="16200000">
            <a:off x="2721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 rot="16200000">
            <a:off x="3140280" y="48715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 rot="16200000">
            <a:off x="35625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 rot="16200000">
            <a:off x="3981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 rot="16200000">
            <a:off x="44038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 rot="16200000">
            <a:off x="482472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 rot="16200000">
            <a:off x="52437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 rot="16200000">
            <a:off x="5664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 rot="16200000">
            <a:off x="60850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 rot="16200000">
            <a:off x="650736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 rot="16200000">
            <a:off x="69282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rot="16200000">
            <a:off x="7347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 rot="16200000">
            <a:off x="7734600" y="490788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4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882720" y="5495760"/>
            <a:ext cx="19080" cy="1159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901800" y="5495760"/>
            <a:ext cx="12600" cy="11592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91440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922320" y="5495760"/>
            <a:ext cx="792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93024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938160" y="5495760"/>
            <a:ext cx="64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944640" y="5495760"/>
            <a:ext cx="468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949320" y="5495760"/>
            <a:ext cx="4680" cy="115920"/>
          </a:xfrm>
          <a:prstGeom prst="rect">
            <a:avLst/>
          </a:prstGeom>
          <a:solidFill>
            <a:srgbClr val="7c7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954000" y="5495760"/>
            <a:ext cx="9720" cy="11592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963720" y="5495760"/>
            <a:ext cx="4680" cy="115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968400" y="5495760"/>
            <a:ext cx="4680" cy="11592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973080" y="5495760"/>
            <a:ext cx="6480" cy="115920"/>
          </a:xfrm>
          <a:prstGeom prst="rect">
            <a:avLst/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979560" y="5495760"/>
            <a:ext cx="4680" cy="115920"/>
          </a:xfrm>
          <a:prstGeom prst="rect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984240" y="5495760"/>
            <a:ext cx="4680" cy="11592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988920" y="5495760"/>
            <a:ext cx="6480" cy="115920"/>
          </a:xfrm>
          <a:prstGeom prst="rect">
            <a:avLst/>
          </a:pr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995400" y="5495760"/>
            <a:ext cx="4680" cy="115920"/>
          </a:xfrm>
          <a:prstGeom prst="rect">
            <a:avLst/>
          </a:pr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1000080" y="5495760"/>
            <a:ext cx="6480" cy="115920"/>
          </a:xfrm>
          <a:prstGeom prst="rect">
            <a:avLst/>
          </a:prstGeom>
          <a:solidFill>
            <a:srgbClr val="8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1006560" y="5495760"/>
            <a:ext cx="468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101124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101916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023840" y="5495760"/>
            <a:ext cx="64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1030320" y="5495760"/>
            <a:ext cx="792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1038240" y="5495760"/>
            <a:ext cx="468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1042920" y="5495760"/>
            <a:ext cx="1116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1054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062000" y="5495760"/>
            <a:ext cx="1584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1077840" y="5495760"/>
            <a:ext cx="2232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1100160" y="5495760"/>
            <a:ext cx="34920" cy="115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1135080" y="5495760"/>
            <a:ext cx="1260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1147680" y="5495760"/>
            <a:ext cx="1440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1162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1170000" y="5495760"/>
            <a:ext cx="792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1177920" y="5495760"/>
            <a:ext cx="792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185840" y="5495760"/>
            <a:ext cx="648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1192320" y="5495760"/>
            <a:ext cx="46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119700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120168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1209600" y="5495760"/>
            <a:ext cx="324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1212840" y="5495760"/>
            <a:ext cx="4680" cy="115920"/>
          </a:xfrm>
          <a:prstGeom prst="rect">
            <a:avLst/>
          </a:pr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1217520" y="5495760"/>
            <a:ext cx="6480" cy="11592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224000" y="5495760"/>
            <a:ext cx="4680" cy="11592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1228680" y="5495760"/>
            <a:ext cx="6480" cy="115920"/>
          </a:xfrm>
          <a:prstGeom prst="rect">
            <a:avLst/>
          </a:pr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1235160" y="5495760"/>
            <a:ext cx="4680" cy="115920"/>
          </a:xfrm>
          <a:prstGeom prst="rect">
            <a:avLst/>
          </a:pr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1239840" y="5495760"/>
            <a:ext cx="4680" cy="11592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1244520" y="5495760"/>
            <a:ext cx="6480" cy="11592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251000" y="5495760"/>
            <a:ext cx="4680" cy="115920"/>
          </a:xfrm>
          <a:prstGeom prst="rect">
            <a:avLst/>
          </a:pr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1255680" y="5495760"/>
            <a:ext cx="7920" cy="115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1263600" y="5495760"/>
            <a:ext cx="6480" cy="115920"/>
          </a:xfrm>
          <a:prstGeom prst="rect">
            <a:avLst/>
          </a:pr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1270080" y="5495760"/>
            <a:ext cx="792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1278000" y="5495760"/>
            <a:ext cx="46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128268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1290600" y="5495760"/>
            <a:ext cx="1116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130176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1309680" y="5495760"/>
            <a:ext cx="22320" cy="1159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884160" y="5497560"/>
            <a:ext cx="457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1434600" y="5435640"/>
            <a:ext cx="151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Balanza comer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3789360" y="5527800"/>
            <a:ext cx="455760" cy="1440"/>
          </a:xfrm>
          <a:prstGeom prst="line">
            <a:avLst/>
          </a:prstGeom>
          <a:ln w="65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4323240" y="5435640"/>
            <a:ext cx="1184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x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6332400" y="5527800"/>
            <a:ext cx="454320" cy="1440"/>
          </a:xfrm>
          <a:prstGeom prst="line">
            <a:avLst/>
          </a:prstGeom>
          <a:ln w="65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6863040" y="5435640"/>
            <a:ext cx="121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Im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6" name=""/>
          <p:cNvGrpSpPr/>
          <p:nvPr/>
        </p:nvGrpSpPr>
        <p:grpSpPr>
          <a:xfrm>
            <a:off x="433440" y="1511280"/>
            <a:ext cx="6964200" cy="4852800"/>
            <a:chOff x="433440" y="1511280"/>
            <a:chExt cx="6964200" cy="4852800"/>
          </a:xfrm>
        </p:grpSpPr>
        <p:sp>
          <p:nvSpPr>
            <p:cNvPr id="1877" name=""/>
            <p:cNvSpPr/>
            <p:nvPr/>
          </p:nvSpPr>
          <p:spPr>
            <a:xfrm>
              <a:off x="433440" y="151128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2166840" y="1611360"/>
              <a:ext cx="3938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Participación en el PBI mundial de países seleccionados, 200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en % del PBI mundial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201040" y="6148440"/>
              <a:ext cx="181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fffff"/>
                  </a:solidFill>
                  <a:latin typeface="Arial"/>
                </a:rPr>
                <a:t>Fuente: Penn World Tables 6.1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002040" y="4521240"/>
              <a:ext cx="20520" cy="12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002040" y="4348080"/>
              <a:ext cx="2052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002040" y="4175280"/>
              <a:ext cx="2052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002040" y="4000680"/>
              <a:ext cx="31680" cy="1285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3002040" y="3840120"/>
              <a:ext cx="31680" cy="114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002040" y="3665520"/>
              <a:ext cx="41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002040" y="3492360"/>
              <a:ext cx="149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002040" y="3319560"/>
              <a:ext cx="201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002040" y="3146400"/>
              <a:ext cx="21276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002040" y="2971800"/>
              <a:ext cx="4046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002040" y="2809800"/>
              <a:ext cx="500040" cy="115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002040" y="2637000"/>
              <a:ext cx="126828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002040" y="2463840"/>
              <a:ext cx="3306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002040" y="5527800"/>
              <a:ext cx="3605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V="1">
              <a:off x="30020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V="1">
              <a:off x="3513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V="1">
              <a:off x="403560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V="1">
              <a:off x="4548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V="1">
              <a:off x="50608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V="1">
              <a:off x="5572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>
              <a:off x="60944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>
              <a:off x="6607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002040" y="2440080"/>
              <a:ext cx="1440" cy="3087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959200" y="5527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959200" y="5354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959200" y="5180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959200" y="5006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959200" y="4844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959200" y="4672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59200" y="44989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959200" y="43243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959200" y="4151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2959200" y="3978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959200" y="3816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2959200" y="36432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2959200" y="3470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2959200" y="3295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2959200" y="3122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2959200" y="2949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2959200" y="2787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2959200" y="26146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2959200" y="2440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064680" y="4498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064680" y="4324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064680" y="4151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075840" y="3978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075840" y="3816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085560" y="3643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193200" y="3470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245760" y="3295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256920" y="3122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448800" y="2949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544200" y="2776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312440" y="26146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350760" y="2440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2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085560" y="4672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118680" y="4844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107520" y="5018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118680" y="5168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107520" y="5354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90376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41640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9063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44175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930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441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965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476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319480" y="535464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498400" y="5180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394360" y="50068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242080" y="483408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394000" y="466092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606400" y="448632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594520" y="432432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327400" y="415116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029680" y="397836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2307240" y="380520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2476440" y="363060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550960" y="345744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455920" y="329580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2552400" y="312264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552400" y="294948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2509200" y="2776680"/>
              <a:ext cx="43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2521080" y="260208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2082240" y="242892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2424240" y="4487760"/>
              <a:ext cx="934920" cy="16200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La reestructuración industrial en el Perú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0" name=""/>
          <p:cNvGrpSpPr/>
          <p:nvPr/>
        </p:nvGrpSpPr>
        <p:grpSpPr>
          <a:xfrm>
            <a:off x="809640" y="1341360"/>
            <a:ext cx="8299440" cy="4889520"/>
            <a:chOff x="809640" y="1341360"/>
            <a:chExt cx="8299440" cy="4889520"/>
          </a:xfrm>
        </p:grpSpPr>
        <p:sp>
          <p:nvSpPr>
            <p:cNvPr id="1971" name=""/>
            <p:cNvSpPr/>
            <p:nvPr/>
          </p:nvSpPr>
          <p:spPr>
            <a:xfrm>
              <a:off x="1090440" y="6006960"/>
              <a:ext cx="116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Fuente: MITINCI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2286000" y="1430280"/>
              <a:ext cx="478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Crecimiento de sectores industri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tasas de crecimiento promedio, 1990 - 2000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V="1">
              <a:off x="2965320" y="1836360"/>
              <a:ext cx="180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481560" y="3030480"/>
              <a:ext cx="1969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5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552840" y="3639960"/>
              <a:ext cx="1968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Crecimiento 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724040" y="3627360"/>
              <a:ext cx="1406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Decrecimien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224760" y="3030480"/>
              <a:ext cx="1758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13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V="1">
              <a:off x="1160640" y="3868560"/>
              <a:ext cx="49212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809640" y="4325760"/>
              <a:ext cx="70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-70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6365880" y="3639960"/>
              <a:ext cx="1898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Muy alto crecimient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V="1">
              <a:off x="6083280" y="1864800"/>
              <a:ext cx="144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890640" y="134136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879480" y="6230880"/>
              <a:ext cx="822960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84" name=""/>
            <p:cNvGrpSpPr/>
            <p:nvPr/>
          </p:nvGrpSpPr>
          <p:grpSpPr>
            <a:xfrm>
              <a:off x="1294560" y="1969920"/>
              <a:ext cx="6603480" cy="4152240"/>
              <a:chOff x="1294560" y="1969920"/>
              <a:chExt cx="6603480" cy="4152240"/>
            </a:xfrm>
          </p:grpSpPr>
          <p:grpSp>
            <p:nvGrpSpPr>
              <p:cNvPr id="1985" name=""/>
              <p:cNvGrpSpPr/>
              <p:nvPr/>
            </p:nvGrpSpPr>
            <p:grpSpPr>
              <a:xfrm>
                <a:off x="1609560" y="2050920"/>
                <a:ext cx="6267600" cy="1943280"/>
                <a:chOff x="1609560" y="2050920"/>
                <a:chExt cx="6267600" cy="1943280"/>
              </a:xfrm>
            </p:grpSpPr>
            <p:sp>
              <p:nvSpPr>
                <p:cNvPr id="1986" name=""/>
                <p:cNvSpPr/>
                <p:nvPr/>
              </p:nvSpPr>
              <p:spPr>
                <a:xfrm>
                  <a:off x="1665360" y="2832120"/>
                  <a:ext cx="73080" cy="11602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1784520" y="2832120"/>
                  <a:ext cx="74520" cy="10094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1905120" y="2832120"/>
                  <a:ext cx="74520" cy="5000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2025720" y="2832120"/>
                  <a:ext cx="73080" cy="288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2144880" y="2832120"/>
                  <a:ext cx="74520" cy="269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2265480" y="2832120"/>
                  <a:ext cx="74520" cy="2491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2386080" y="2832120"/>
                  <a:ext cx="73080" cy="188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2505240" y="2832120"/>
                  <a:ext cx="74520" cy="129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2625840" y="2832120"/>
                  <a:ext cx="74520" cy="1188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2746440" y="2832120"/>
                  <a:ext cx="7308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2865600" y="2832120"/>
                  <a:ext cx="7452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2986200" y="2832120"/>
                  <a:ext cx="7452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3106800" y="2832120"/>
                  <a:ext cx="7308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3225960" y="2801880"/>
                  <a:ext cx="64800" cy="30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3336840" y="2790720"/>
                  <a:ext cx="74520" cy="41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3457440" y="2781360"/>
                  <a:ext cx="7488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3578400" y="2781360"/>
                  <a:ext cx="7272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3697200" y="2771640"/>
                  <a:ext cx="74880" cy="6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3817800" y="2762280"/>
                  <a:ext cx="74880" cy="69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3938760" y="2751120"/>
                  <a:ext cx="7272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4057560" y="2751120"/>
                  <a:ext cx="7488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4178160" y="2732040"/>
                  <a:ext cx="74880" cy="1000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4299120" y="2720880"/>
                  <a:ext cx="7272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4417920" y="2720880"/>
                  <a:ext cx="7488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4538520" y="2711160"/>
                  <a:ext cx="74880" cy="120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4659480" y="2701800"/>
                  <a:ext cx="7272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4780080" y="2701800"/>
                  <a:ext cx="7308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4898880" y="2690640"/>
                  <a:ext cx="7488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5019840" y="2690640"/>
                  <a:ext cx="7272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5140440" y="2631960"/>
                  <a:ext cx="73080" cy="200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5259240" y="2620800"/>
                  <a:ext cx="74880" cy="211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5380200" y="2611440"/>
                  <a:ext cx="72720" cy="22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5500800" y="2601720"/>
                  <a:ext cx="73080" cy="230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5619600" y="2590560"/>
                  <a:ext cx="74880" cy="2415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5740560" y="2581200"/>
                  <a:ext cx="74520" cy="25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5861160" y="2571480"/>
                  <a:ext cx="73080" cy="260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5979960" y="2550960"/>
                  <a:ext cx="7488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6100920" y="2550960"/>
                  <a:ext cx="7452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6221520" y="2511360"/>
                  <a:ext cx="73080" cy="32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6340320" y="2501640"/>
                  <a:ext cx="65160" cy="33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6451560" y="2481120"/>
                  <a:ext cx="7452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6572160" y="2481120"/>
                  <a:ext cx="7308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6692760" y="2471760"/>
                  <a:ext cx="73080" cy="360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6811920" y="2411280"/>
                  <a:ext cx="7452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6932520" y="2411280"/>
                  <a:ext cx="7488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7053120" y="2390760"/>
                  <a:ext cx="73080" cy="441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7172280" y="2360520"/>
                  <a:ext cx="7452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7292880" y="2360520"/>
                  <a:ext cx="7488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7413480" y="2341440"/>
                  <a:ext cx="73080" cy="49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7532640" y="2311200"/>
                  <a:ext cx="74520" cy="52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7653240" y="2271600"/>
                  <a:ext cx="74880" cy="5605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7773840" y="2130480"/>
                  <a:ext cx="73080" cy="701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1646280" y="2050920"/>
                  <a:ext cx="1440" cy="194148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1609560" y="39924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1609560" y="380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1609560" y="36018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1609560" y="341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1609560" y="32115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1609560" y="30207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1609560" y="28321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1609560" y="263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1609560" y="24415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1609560" y="224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1609560" y="20509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1646280" y="2832120"/>
                  <a:ext cx="6229440" cy="14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 flipV="1">
                  <a:off x="1646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 flipV="1">
                  <a:off x="17668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flipV="1">
                  <a:off x="1886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flipV="1">
                  <a:off x="2006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 flipV="1">
                  <a:off x="2127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 flipV="1">
                  <a:off x="2246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 flipV="1">
                  <a:off x="2367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 flipV="1">
                  <a:off x="2487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V="1">
                  <a:off x="2606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V="1">
                  <a:off x="2727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V="1">
                  <a:off x="2847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V="1">
                  <a:off x="2967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V="1">
                  <a:off x="3087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V="1">
                  <a:off x="3208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V="1">
                  <a:off x="33195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V="1">
                  <a:off x="34383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V="1">
                  <a:off x="3559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V="1">
                  <a:off x="36799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V="1">
                  <a:off x="379872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flipV="1">
                  <a:off x="3919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V="1">
                  <a:off x="4040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V="1">
                  <a:off x="4159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 flipV="1">
                  <a:off x="4280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V="1">
                  <a:off x="4400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flipV="1">
                  <a:off x="4521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V="1">
                  <a:off x="4640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V="1">
                  <a:off x="4761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flipV="1">
                  <a:off x="4881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 flipV="1">
                  <a:off x="5000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 flipV="1">
                  <a:off x="5121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V="1">
                  <a:off x="5241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V="1">
                  <a:off x="5361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V="1">
                  <a:off x="5481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V="1">
                  <a:off x="5602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V="1">
                  <a:off x="57214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V="1">
                  <a:off x="58420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V="1">
                  <a:off x="5962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V="1">
                  <a:off x="60818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V="1">
                  <a:off x="62024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V="1">
                  <a:off x="6323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V="1">
                  <a:off x="6434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V="1">
                  <a:off x="6553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V="1">
                  <a:off x="66736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 flipV="1">
                  <a:off x="6794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 flipV="1">
                  <a:off x="69134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 flipV="1">
                  <a:off x="70340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 flipV="1">
                  <a:off x="7155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 flipV="1">
                  <a:off x="72738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 flipV="1">
                  <a:off x="73944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 flipV="1">
                  <a:off x="7515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 flipV="1">
                  <a:off x="76341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 flipV="1">
                  <a:off x="77547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 flipV="1">
                  <a:off x="7875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1701720" y="388296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1728720" y="38322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1747800" y="379260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1776240" y="374148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7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1793880" y="37224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1812960" y="366228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1839960" y="36226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1868400" y="357192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1878120" y="357192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1905120" y="351144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1914480" y="351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1941480" y="3462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1979640" y="342252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2006640" y="3381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2035080" y="333216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043000" y="333216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2071800" y="328140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2062080" y="32922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2108160" y="326232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2127240" y="324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2154240" y="31924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2144880" y="320184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2190600" y="317160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2190600" y="316224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2228760" y="313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274840" y="310176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2274840" y="30924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2311560" y="306216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2376360" y="30416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2357280" y="302076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8" y="7"/>
                      </a:lnTo>
                      <a:lnTo>
                        <a:pt x="12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2413080" y="3011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2403360" y="300168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2459160" y="29811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505240" y="295092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2543040" y="29415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589120" y="291132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2644920" y="28908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2662200" y="288108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2717640" y="287172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2746440" y="286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2801880" y="28512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2865600" y="2841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2874960" y="284148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2921040" y="28209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2986200" y="282096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2995560" y="2811240"/>
                  <a:ext cx="27000" cy="2088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3060720" y="281124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3116160" y="2801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31240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31798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32353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325440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330984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3365640" y="27907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33829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343836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3494160" y="279072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35035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355932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361476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363384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36892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371628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3772080" y="2781360"/>
                  <a:ext cx="18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3827520" y="2781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38368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389268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394812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396540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402120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407664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409572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415116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4206960" y="2762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421488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427032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432576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434484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4400640" y="27511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4456080" y="27414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4465800" y="274140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4511520" y="273204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6" name=""/>
              <p:cNvSpPr/>
              <p:nvPr/>
            </p:nvSpPr>
            <p:spPr>
              <a:xfrm>
                <a:off x="4575240" y="27320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584600" y="272088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4649760" y="272088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4705200" y="2711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4714920" y="271116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4761000" y="270180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4807080" y="27018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4853160" y="26906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4917960" y="26812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4927680" y="268128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4973760" y="26715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038560" y="2671560"/>
                <a:ext cx="17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046840" y="2660400"/>
                <a:ext cx="2844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102280" y="26510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167440" y="26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176800" y="26510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222880" y="26319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288040" y="26319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297400" y="26208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351400" y="261144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416560" y="2611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425920" y="26114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481720" y="26017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537160" y="25905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556240" y="2590560"/>
                <a:ext cx="176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5610240" y="25812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66568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68476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5730840" y="256068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5759280" y="2550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5823000" y="255096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5878440" y="25416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5888160" y="25416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934240" y="25318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5999040" y="25318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008760" y="252072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073920" y="2520720"/>
                <a:ext cx="17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127920" y="252072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6137280" y="25207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6192720" y="25113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248520" y="250164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26760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32304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378480" y="2490840"/>
                <a:ext cx="176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396120" y="2490840"/>
                <a:ext cx="190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442200" y="248112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507000" y="24811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516720" y="24811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562800" y="24717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6627960" y="24717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6645240" y="24717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692760" y="246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6756480" y="246060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6765840" y="246060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6821640" y="2450880"/>
                <a:ext cx="18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6850080" y="245088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6896160" y="244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6959520" y="24415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6969240" y="2430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024680" y="24210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089840" y="24210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099200" y="24112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155000" y="24019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218360" y="239076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227720" y="23907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273800" y="237168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338960" y="23605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348680" y="235080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7404120" y="234144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7469280" y="2320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7477200" y="23209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7524720" y="229068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7578720" y="227160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7597800" y="22604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7653240" y="223020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7699320" y="220032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7718400" y="219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7764480" y="217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294560" y="39132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3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1294560" y="37224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1294560" y="35226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1294560" y="333216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1294560" y="31320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1360080" y="2941560"/>
                <a:ext cx="21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1396440" y="27511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1396440" y="25509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1331280" y="23605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1331280" y="216036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1331280" y="19699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rot="16200000">
                <a:off x="937440" y="4730400"/>
                <a:ext cx="1529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quipo, Radio y Televis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16200000">
                <a:off x="1015920" y="4861080"/>
                <a:ext cx="160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paratos Electrodomé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rot="16200000">
                <a:off x="1318680" y="4636800"/>
                <a:ext cx="124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bonos y Plaguic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16200000">
                <a:off x="1764000" y="4309920"/>
                <a:ext cx="59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urtidu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rot="16200000">
                <a:off x="1303200" y="4910040"/>
                <a:ext cx="175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Caucho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16200000">
                <a:off x="1636200" y="4699080"/>
                <a:ext cx="1328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Vehículos automotore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rot="16200000">
                <a:off x="1555920" y="4892760"/>
                <a:ext cx="173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hocolates, cacao y confit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rot="16200000">
                <a:off x="1648440" y="4911480"/>
                <a:ext cx="1792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Farmacéuticos de uso Huma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16200000">
                <a:off x="1794240" y="4894200"/>
                <a:ext cx="1742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y equip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16200000">
                <a:off x="1937520" y="4872960"/>
                <a:ext cx="169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alzado de cu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16200000">
                <a:off x="1985760" y="4936320"/>
                <a:ext cx="183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Destilación de alcohol y beb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16200000">
                <a:off x="2480760" y="4558680"/>
                <a:ext cx="1090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Llantas y Cámar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rot="16200000">
                <a:off x="2671200" y="4456800"/>
                <a:ext cx="950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rveza y Malt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rot="16200000">
                <a:off x="2457360" y="4807080"/>
                <a:ext cx="161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ilados, Tejidos y acabad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rot="16200000">
                <a:off x="2740320" y="4657680"/>
                <a:ext cx="1291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finerías de Petróle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rot="16200000">
                <a:off x="2723760" y="4783320"/>
                <a:ext cx="156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rot="16200000">
                <a:off x="2768400" y="4899600"/>
                <a:ext cx="171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serraderos y acepilladura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rot="16200000">
                <a:off x="2931480" y="4857840"/>
                <a:ext cx="162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sinas Sintéticas, materi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rot="16200000">
                <a:off x="2911320" y="4977360"/>
                <a:ext cx="191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ceites y grasas vegetal y animal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rot="16200000">
                <a:off x="3771000" y="4225320"/>
                <a:ext cx="430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zúca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rot="16200000">
                <a:off x="3388680" y="4734720"/>
                <a:ext cx="143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frutas y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rot="16200000">
                <a:off x="3423240" y="4846320"/>
                <a:ext cx="160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eléctrica divers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 rot="16200000">
                <a:off x="3800520" y="4585680"/>
                <a:ext cx="109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s diver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rot="16200000">
                <a:off x="3519000" y="5013720"/>
                <a:ext cx="189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inerales no metál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rot="16200000">
                <a:off x="3586320" y="5044320"/>
                <a:ext cx="200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onfección de pren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rot="16200000">
                <a:off x="4478040" y="4234320"/>
                <a:ext cx="457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abac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rot="16200000">
                <a:off x="3853800" y="4981680"/>
                <a:ext cx="192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Pescado y otr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rot="16200000">
                <a:off x="3945600" y="4992480"/>
                <a:ext cx="198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laboración de Harina de Pescad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rot="16200000">
                <a:off x="4165920" y="4958640"/>
                <a:ext cx="178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Suministros Eléctr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rot="16200000">
                <a:off x="4904640" y="4276800"/>
                <a:ext cx="54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me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rot="16200000">
                <a:off x="4941360" y="4381560"/>
                <a:ext cx="715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anificac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rot="16200000">
                <a:off x="4628520" y="4822560"/>
                <a:ext cx="158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erramientas y artícul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rot="16200000">
                <a:off x="4574520" y="4993200"/>
                <a:ext cx="192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l vidrio y product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rot="16200000">
                <a:off x="5117400" y="4582440"/>
                <a:ext cx="1084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Lácte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rot="16200000">
                <a:off x="5011920" y="4795200"/>
                <a:ext cx="153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inturas, Barnices y Lac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rot="16200000">
                <a:off x="4926960" y="4992840"/>
                <a:ext cx="19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Hierro y ac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rot="16200000">
                <a:off x="5108400" y="4974120"/>
                <a:ext cx="182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Alimentici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rot="16200000">
                <a:off x="5563440" y="4586400"/>
                <a:ext cx="1151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olinería de gran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rot="16200000">
                <a:off x="5496840" y="4791960"/>
                <a:ext cx="1521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tros Productos Quím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rot="16200000">
                <a:off x="5497560" y="4900680"/>
                <a:ext cx="1762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Metales 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rot="16200000">
                <a:off x="5608080" y="4932720"/>
                <a:ext cx="1785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mprenta, editoriales y conex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rot="16200000">
                <a:off x="5805720" y="4846680"/>
                <a:ext cx="1628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limentos balanceados par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 rot="16200000">
                <a:off x="5780880" y="4973760"/>
                <a:ext cx="1919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Tocador y Limpiez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 rot="16200000">
                <a:off x="6400440" y="4469760"/>
                <a:ext cx="921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Química Básic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 rot="16200000">
                <a:off x="6093720" y="4922280"/>
                <a:ext cx="1773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eparación y conservación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 rot="16200000">
                <a:off x="6534360" y="4570920"/>
                <a:ext cx="1133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Bebidas Gaseo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 rot="16200000">
                <a:off x="6630480" y="4635720"/>
                <a:ext cx="118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Plá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rot="16200000">
                <a:off x="6540840" y="4776840"/>
                <a:ext cx="160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nvases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rot="16200000">
                <a:off x="7130880" y="4336200"/>
                <a:ext cx="66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rdel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 rot="16200000">
                <a:off x="6723360" y="4919040"/>
                <a:ext cx="1716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etál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rot="16200000">
                <a:off x="7211520" y="4497120"/>
                <a:ext cx="982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ejidos de Pu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 rot="16200000">
                <a:off x="7020360" y="4807080"/>
                <a:ext cx="160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bjetos de loza y porcelan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"/>
          <p:cNvSpPr/>
          <p:nvPr/>
        </p:nvSpPr>
        <p:spPr>
          <a:xfrm>
            <a:off x="492120" y="6095880"/>
            <a:ext cx="647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Banco Mundial, "Closing the Gap in Education and Technology" (2002)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611280" y="333360"/>
            <a:ext cx="7543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versión en I&amp;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9" name=""/>
          <p:cNvGrpSpPr/>
          <p:nvPr/>
        </p:nvGrpSpPr>
        <p:grpSpPr>
          <a:xfrm>
            <a:off x="489600" y="1219320"/>
            <a:ext cx="3894480" cy="4611600"/>
            <a:chOff x="489600" y="1219320"/>
            <a:chExt cx="3894480" cy="4611600"/>
          </a:xfrm>
        </p:grpSpPr>
        <p:sp>
          <p:nvSpPr>
            <p:cNvPr id="2330" name=""/>
            <p:cNvSpPr/>
            <p:nvPr/>
          </p:nvSpPr>
          <p:spPr>
            <a:xfrm>
              <a:off x="633240" y="1219320"/>
              <a:ext cx="3516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América Latin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31" name=""/>
            <p:cNvGrpSpPr/>
            <p:nvPr/>
          </p:nvGrpSpPr>
          <p:grpSpPr>
            <a:xfrm>
              <a:off x="489600" y="1913040"/>
              <a:ext cx="3894480" cy="3917880"/>
              <a:chOff x="489600" y="1913040"/>
              <a:chExt cx="3894480" cy="3917880"/>
            </a:xfrm>
          </p:grpSpPr>
          <p:sp>
            <p:nvSpPr>
              <p:cNvPr id="2332" name=""/>
              <p:cNvSpPr/>
              <p:nvPr/>
            </p:nvSpPr>
            <p:spPr>
              <a:xfrm>
                <a:off x="895320" y="4791240"/>
                <a:ext cx="165240" cy="136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1195560" y="4686480"/>
                <a:ext cx="153720" cy="2412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1484280" y="4633920"/>
                <a:ext cx="165240" cy="2937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1784520" y="4624560"/>
                <a:ext cx="163440" cy="303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2084400" y="4529160"/>
                <a:ext cx="154080" cy="398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2373480" y="4456080"/>
                <a:ext cx="163440" cy="4716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2673360" y="4205160"/>
                <a:ext cx="163440" cy="722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2971800" y="4089240"/>
                <a:ext cx="155520" cy="838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3262320" y="3063960"/>
                <a:ext cx="163440" cy="18637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3560760" y="2781360"/>
                <a:ext cx="16524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3860640" y="2781360"/>
                <a:ext cx="15408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4151160" y="2362320"/>
                <a:ext cx="163800" cy="25653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28720" y="1996920"/>
                <a:ext cx="1440" cy="2930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789120" y="49276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789120" y="456084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789120" y="41940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789120" y="38275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789120" y="34624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789120" y="309564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89120" y="27288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89120" y="23623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89120" y="199692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828720" y="4927680"/>
                <a:ext cx="355428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884880" y="45608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1184760" y="445608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9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1445040" y="44038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1745280" y="43941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2043720" y="4299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2334240" y="4226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5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2632680" y="3975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2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2932560" y="38592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5.9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3221640" y="2833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352152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382176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4110480" y="2131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556200" y="48434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489600" y="44766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489600" y="4111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489600" y="37450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489600" y="33782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4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489600" y="30114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489600" y="2644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489600" y="22795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489600" y="1913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8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rot="16200000">
                <a:off x="626760" y="5304960"/>
                <a:ext cx="69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Nicaragu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rot="16200000">
                <a:off x="990360" y="52549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cu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 rot="16200000">
                <a:off x="1285200" y="5240160"/>
                <a:ext cx="578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Urugua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rot="16200000">
                <a:off x="1473480" y="5348160"/>
                <a:ext cx="78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l Salv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 rot="16200000">
                <a:off x="1843560" y="5290560"/>
                <a:ext cx="645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lombi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 rot="16200000">
                <a:off x="2091600" y="5330880"/>
                <a:ext cx="749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Guatema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rot="16200000">
                <a:off x="2594880" y="5123160"/>
                <a:ext cx="323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Perú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rot="16200000">
                <a:off x="2681640" y="5352120"/>
                <a:ext cx="747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sta Ric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 rot="16200000">
                <a:off x="3180960" y="5131800"/>
                <a:ext cx="348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hil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rot="16200000">
                <a:off x="3316320" y="5271840"/>
                <a:ext cx="655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Argentin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 rot="16200000">
                <a:off x="3753360" y="5155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Brasi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 rot="16200000">
                <a:off x="3881880" y="5309640"/>
                <a:ext cx="724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Venezue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88" name=""/>
          <p:cNvGrpSpPr/>
          <p:nvPr/>
        </p:nvGrpSpPr>
        <p:grpSpPr>
          <a:xfrm>
            <a:off x="5064120" y="1197000"/>
            <a:ext cx="3798720" cy="4548240"/>
            <a:chOff x="5064120" y="1197000"/>
            <a:chExt cx="3798720" cy="4548240"/>
          </a:xfrm>
        </p:grpSpPr>
        <p:sp>
          <p:nvSpPr>
            <p:cNvPr id="2389" name=""/>
            <p:cNvSpPr/>
            <p:nvPr/>
          </p:nvSpPr>
          <p:spPr>
            <a:xfrm>
              <a:off x="5064120" y="1197000"/>
              <a:ext cx="3798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Singapur &amp; Kore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90" name=""/>
            <p:cNvGrpSpPr/>
            <p:nvPr/>
          </p:nvGrpSpPr>
          <p:grpSpPr>
            <a:xfrm>
              <a:off x="5339520" y="2116080"/>
              <a:ext cx="3080520" cy="3629160"/>
              <a:chOff x="5339520" y="2116080"/>
              <a:chExt cx="3080520" cy="3629160"/>
            </a:xfrm>
          </p:grpSpPr>
          <p:sp>
            <p:nvSpPr>
              <p:cNvPr id="2391" name=""/>
              <p:cNvSpPr/>
              <p:nvPr/>
            </p:nvSpPr>
            <p:spPr>
              <a:xfrm>
                <a:off x="6164280" y="4092480"/>
                <a:ext cx="487440" cy="13287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512120" y="2349360"/>
                <a:ext cx="476280" cy="30718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734080" y="2197080"/>
                <a:ext cx="1440" cy="32241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5695920" y="54212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5695920" y="50148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695920" y="4619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5695920" y="42148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695920" y="38084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695920" y="340344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695920" y="300816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695920" y="2603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695920" y="21970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734080" y="5421240"/>
                <a:ext cx="26859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6247800" y="38703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67.9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595640" y="2125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83.7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5471280" y="53388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5406480" y="49338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5339520" y="45385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5339520" y="41338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5339520" y="3727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5339520" y="3322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339520" y="29271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339520" y="25207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339520" y="21160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4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6132240" y="5562360"/>
                <a:ext cx="613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Singapu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556040" y="5562360"/>
                <a:ext cx="41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re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9" name=""/>
          <p:cNvGrpSpPr/>
          <p:nvPr/>
        </p:nvGrpSpPr>
        <p:grpSpPr>
          <a:xfrm>
            <a:off x="4934160" y="1916280"/>
            <a:ext cx="3741480" cy="2398680"/>
            <a:chOff x="4934160" y="1916280"/>
            <a:chExt cx="3741480" cy="2398680"/>
          </a:xfrm>
        </p:grpSpPr>
        <p:grpSp>
          <p:nvGrpSpPr>
            <p:cNvPr id="2420" name=""/>
            <p:cNvGrpSpPr/>
            <p:nvPr/>
          </p:nvGrpSpPr>
          <p:grpSpPr>
            <a:xfrm>
              <a:off x="5124600" y="2255760"/>
              <a:ext cx="3544560" cy="1402920"/>
              <a:chOff x="5124600" y="2255760"/>
              <a:chExt cx="3544560" cy="1402920"/>
            </a:xfrm>
          </p:grpSpPr>
          <p:sp>
            <p:nvSpPr>
              <p:cNvPr id="2421" name=""/>
              <p:cNvSpPr/>
              <p:nvPr/>
            </p:nvSpPr>
            <p:spPr>
              <a:xfrm>
                <a:off x="5148360" y="2255760"/>
                <a:ext cx="1440" cy="1376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5124600" y="363204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5124600" y="343368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5124600" y="3236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5124600" y="3038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5124600" y="2849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5124600" y="2652840"/>
                <a:ext cx="237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5124600" y="245412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5124600" y="2255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5148360" y="3632040"/>
                <a:ext cx="351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V="1">
                <a:off x="5148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V="1">
                <a:off x="5221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V="1">
                <a:off x="5292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V="1">
                <a:off x="5357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V="1">
                <a:off x="54291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V="1">
                <a:off x="55008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V="1">
                <a:off x="5573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V="1">
                <a:off x="56372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V="1">
                <a:off x="57103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V="1">
                <a:off x="57816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58546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V="1">
                <a:off x="59259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59911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V="1">
                <a:off x="60627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61340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V="1">
                <a:off x="62071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62704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63435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V="1">
                <a:off x="64152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V="1">
                <a:off x="64882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65595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66229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V="1">
                <a:off x="66960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67676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V="1">
                <a:off x="68403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6912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flipV="1">
                <a:off x="69771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70484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V="1">
                <a:off x="7121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V="1">
                <a:off x="71928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V="1">
                <a:off x="7256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V="1">
                <a:off x="73296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V="1">
                <a:off x="74008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74739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V="1">
                <a:off x="75452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V="1">
                <a:off x="76104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V="1">
                <a:off x="76820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V="1">
                <a:off x="7754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V="1">
                <a:off x="78264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V="1">
                <a:off x="7889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V="1">
                <a:off x="79628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 flipV="1">
                <a:off x="80344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V="1">
                <a:off x="81072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 flipV="1">
                <a:off x="81788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V="1">
                <a:off x="8244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V="1">
                <a:off x="83152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V="1">
                <a:off x="83869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V="1">
                <a:off x="84596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V="1">
                <a:off x="8523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flipV="1">
                <a:off x="8596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 flipV="1">
                <a:off x="8667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180040" y="2427120"/>
                <a:ext cx="3456000" cy="827280"/>
              </a:xfrm>
              <a:custGeom>
                <a:avLst/>
                <a:gdLst/>
                <a:ahLst/>
                <a:rect l="l" t="t" r="r" b="b"/>
                <a:pathLst>
                  <a:path w="431" h="92">
                    <a:moveTo>
                      <a:pt x="0" y="81"/>
                    </a:moveTo>
                    <a:lnTo>
                      <a:pt x="9" y="83"/>
                    </a:lnTo>
                    <a:lnTo>
                      <a:pt x="18" y="92"/>
                    </a:lnTo>
                    <a:lnTo>
                      <a:pt x="27" y="88"/>
                    </a:lnTo>
                    <a:lnTo>
                      <a:pt x="36" y="83"/>
                    </a:lnTo>
                    <a:lnTo>
                      <a:pt x="44" y="84"/>
                    </a:lnTo>
                    <a:lnTo>
                      <a:pt x="53" y="84"/>
                    </a:lnTo>
                    <a:lnTo>
                      <a:pt x="62" y="88"/>
                    </a:lnTo>
                    <a:lnTo>
                      <a:pt x="71" y="84"/>
                    </a:lnTo>
                    <a:lnTo>
                      <a:pt x="79" y="76"/>
                    </a:lnTo>
                    <a:lnTo>
                      <a:pt x="88" y="73"/>
                    </a:lnTo>
                    <a:lnTo>
                      <a:pt x="97" y="77"/>
                    </a:lnTo>
                    <a:lnTo>
                      <a:pt x="106" y="78"/>
                    </a:lnTo>
                    <a:lnTo>
                      <a:pt x="115" y="75"/>
                    </a:lnTo>
                    <a:lnTo>
                      <a:pt x="123" y="77"/>
                    </a:lnTo>
                    <a:lnTo>
                      <a:pt x="132" y="73"/>
                    </a:lnTo>
                    <a:lnTo>
                      <a:pt x="141" y="77"/>
                    </a:lnTo>
                    <a:lnTo>
                      <a:pt x="150" y="76"/>
                    </a:lnTo>
                    <a:lnTo>
                      <a:pt x="158" y="73"/>
                    </a:lnTo>
                    <a:lnTo>
                      <a:pt x="167" y="74"/>
                    </a:lnTo>
                    <a:lnTo>
                      <a:pt x="176" y="76"/>
                    </a:lnTo>
                    <a:lnTo>
                      <a:pt x="185" y="78"/>
                    </a:lnTo>
                    <a:lnTo>
                      <a:pt x="194" y="77"/>
                    </a:lnTo>
                    <a:lnTo>
                      <a:pt x="202" y="72"/>
                    </a:lnTo>
                    <a:lnTo>
                      <a:pt x="211" y="78"/>
                    </a:lnTo>
                    <a:lnTo>
                      <a:pt x="220" y="72"/>
                    </a:lnTo>
                    <a:lnTo>
                      <a:pt x="229" y="64"/>
                    </a:lnTo>
                    <a:lnTo>
                      <a:pt x="237" y="60"/>
                    </a:lnTo>
                    <a:lnTo>
                      <a:pt x="246" y="54"/>
                    </a:lnTo>
                    <a:lnTo>
                      <a:pt x="255" y="42"/>
                    </a:lnTo>
                    <a:lnTo>
                      <a:pt x="264" y="42"/>
                    </a:lnTo>
                    <a:lnTo>
                      <a:pt x="273" y="54"/>
                    </a:lnTo>
                    <a:lnTo>
                      <a:pt x="281" y="56"/>
                    </a:lnTo>
                    <a:lnTo>
                      <a:pt x="290" y="54"/>
                    </a:lnTo>
                    <a:lnTo>
                      <a:pt x="299" y="58"/>
                    </a:lnTo>
                    <a:lnTo>
                      <a:pt x="308" y="55"/>
                    </a:lnTo>
                    <a:lnTo>
                      <a:pt x="316" y="50"/>
                    </a:lnTo>
                    <a:lnTo>
                      <a:pt x="325" y="46"/>
                    </a:lnTo>
                    <a:lnTo>
                      <a:pt x="334" y="38"/>
                    </a:lnTo>
                    <a:lnTo>
                      <a:pt x="343" y="34"/>
                    </a:lnTo>
                    <a:lnTo>
                      <a:pt x="352" y="32"/>
                    </a:lnTo>
                    <a:lnTo>
                      <a:pt x="360" y="26"/>
                    </a:lnTo>
                    <a:lnTo>
                      <a:pt x="369" y="25"/>
                    </a:lnTo>
                    <a:lnTo>
                      <a:pt x="378" y="20"/>
                    </a:lnTo>
                    <a:lnTo>
                      <a:pt x="387" y="11"/>
                    </a:lnTo>
                    <a:lnTo>
                      <a:pt x="395" y="6"/>
                    </a:lnTo>
                    <a:lnTo>
                      <a:pt x="404" y="2"/>
                    </a:lnTo>
                    <a:lnTo>
                      <a:pt x="413" y="0"/>
                    </a:lnTo>
                    <a:lnTo>
                      <a:pt x="422" y="4"/>
                    </a:lnTo>
                    <a:lnTo>
                      <a:pt x="431" y="0"/>
                    </a:lnTo>
                  </a:path>
                </a:pathLst>
              </a:custGeom>
              <a:noFill/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5180040" y="2967120"/>
                <a:ext cx="3456000" cy="314280"/>
              </a:xfrm>
              <a:custGeom>
                <a:avLst/>
                <a:gdLst/>
                <a:ahLst/>
                <a:rect l="l" t="t" r="r" b="b"/>
                <a:pathLst>
                  <a:path w="431" h="35">
                    <a:moveTo>
                      <a:pt x="0" y="20"/>
                    </a:moveTo>
                    <a:lnTo>
                      <a:pt x="9" y="23"/>
                    </a:lnTo>
                    <a:lnTo>
                      <a:pt x="18" y="12"/>
                    </a:lnTo>
                    <a:lnTo>
                      <a:pt x="27" y="16"/>
                    </a:lnTo>
                    <a:lnTo>
                      <a:pt x="36" y="16"/>
                    </a:lnTo>
                    <a:lnTo>
                      <a:pt x="44" y="20"/>
                    </a:lnTo>
                    <a:lnTo>
                      <a:pt x="53" y="25"/>
                    </a:lnTo>
                    <a:lnTo>
                      <a:pt x="62" y="28"/>
                    </a:lnTo>
                    <a:lnTo>
                      <a:pt x="71" y="26"/>
                    </a:lnTo>
                    <a:lnTo>
                      <a:pt x="79" y="25"/>
                    </a:lnTo>
                    <a:lnTo>
                      <a:pt x="88" y="28"/>
                    </a:lnTo>
                    <a:lnTo>
                      <a:pt x="97" y="28"/>
                    </a:lnTo>
                    <a:lnTo>
                      <a:pt x="106" y="31"/>
                    </a:lnTo>
                    <a:lnTo>
                      <a:pt x="115" y="28"/>
                    </a:lnTo>
                    <a:lnTo>
                      <a:pt x="123" y="31"/>
                    </a:lnTo>
                    <a:lnTo>
                      <a:pt x="132" y="28"/>
                    </a:lnTo>
                    <a:lnTo>
                      <a:pt x="141" y="32"/>
                    </a:lnTo>
                    <a:lnTo>
                      <a:pt x="150" y="29"/>
                    </a:lnTo>
                    <a:lnTo>
                      <a:pt x="158" y="29"/>
                    </a:lnTo>
                    <a:lnTo>
                      <a:pt x="167" y="28"/>
                    </a:lnTo>
                    <a:lnTo>
                      <a:pt x="176" y="26"/>
                    </a:lnTo>
                    <a:lnTo>
                      <a:pt x="185" y="28"/>
                    </a:lnTo>
                    <a:lnTo>
                      <a:pt x="194" y="30"/>
                    </a:lnTo>
                    <a:lnTo>
                      <a:pt x="202" y="34"/>
                    </a:lnTo>
                    <a:lnTo>
                      <a:pt x="211" y="34"/>
                    </a:lnTo>
                    <a:lnTo>
                      <a:pt x="220" y="35"/>
                    </a:lnTo>
                    <a:lnTo>
                      <a:pt x="229" y="35"/>
                    </a:lnTo>
                    <a:lnTo>
                      <a:pt x="237" y="30"/>
                    </a:lnTo>
                    <a:lnTo>
                      <a:pt x="246" y="31"/>
                    </a:lnTo>
                    <a:lnTo>
                      <a:pt x="255" y="28"/>
                    </a:lnTo>
                    <a:lnTo>
                      <a:pt x="264" y="30"/>
                    </a:lnTo>
                    <a:lnTo>
                      <a:pt x="273" y="29"/>
                    </a:lnTo>
                    <a:lnTo>
                      <a:pt x="281" y="32"/>
                    </a:lnTo>
                    <a:lnTo>
                      <a:pt x="290" y="32"/>
                    </a:lnTo>
                    <a:lnTo>
                      <a:pt x="299" y="33"/>
                    </a:lnTo>
                    <a:lnTo>
                      <a:pt x="308" y="30"/>
                    </a:lnTo>
                    <a:lnTo>
                      <a:pt x="316" y="29"/>
                    </a:lnTo>
                    <a:lnTo>
                      <a:pt x="325" y="29"/>
                    </a:lnTo>
                    <a:lnTo>
                      <a:pt x="334" y="30"/>
                    </a:lnTo>
                    <a:lnTo>
                      <a:pt x="343" y="26"/>
                    </a:lnTo>
                    <a:lnTo>
                      <a:pt x="352" y="23"/>
                    </a:lnTo>
                    <a:lnTo>
                      <a:pt x="360" y="15"/>
                    </a:lnTo>
                    <a:lnTo>
                      <a:pt x="369" y="6"/>
                    </a:lnTo>
                    <a:lnTo>
                      <a:pt x="378" y="1"/>
                    </a:lnTo>
                    <a:lnTo>
                      <a:pt x="387" y="2"/>
                    </a:lnTo>
                    <a:lnTo>
                      <a:pt x="395" y="1"/>
                    </a:lnTo>
                    <a:lnTo>
                      <a:pt x="404" y="0"/>
                    </a:lnTo>
                    <a:lnTo>
                      <a:pt x="413" y="0"/>
                    </a:lnTo>
                    <a:lnTo>
                      <a:pt x="422" y="6"/>
                    </a:lnTo>
                    <a:lnTo>
                      <a:pt x="431" y="4"/>
                    </a:lnTo>
                  </a:path>
                </a:pathLst>
              </a:custGeom>
              <a:noFill/>
              <a:ln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5180040" y="2922480"/>
                <a:ext cx="3456000" cy="358920"/>
              </a:xfrm>
              <a:custGeom>
                <a:avLst/>
                <a:gdLst/>
                <a:ahLst/>
                <a:rect l="l" t="t" r="r" b="b"/>
                <a:pathLst>
                  <a:path w="431" h="40">
                    <a:moveTo>
                      <a:pt x="0" y="23"/>
                    </a:moveTo>
                    <a:lnTo>
                      <a:pt x="9" y="19"/>
                    </a:lnTo>
                    <a:lnTo>
                      <a:pt x="18" y="16"/>
                    </a:lnTo>
                    <a:lnTo>
                      <a:pt x="27" y="20"/>
                    </a:lnTo>
                    <a:lnTo>
                      <a:pt x="36" y="13"/>
                    </a:lnTo>
                    <a:lnTo>
                      <a:pt x="44" y="11"/>
                    </a:lnTo>
                    <a:lnTo>
                      <a:pt x="53" y="6"/>
                    </a:lnTo>
                    <a:lnTo>
                      <a:pt x="62" y="12"/>
                    </a:lnTo>
                    <a:lnTo>
                      <a:pt x="71" y="12"/>
                    </a:lnTo>
                    <a:lnTo>
                      <a:pt x="79" y="7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6" y="6"/>
                    </a:lnTo>
                    <a:lnTo>
                      <a:pt x="115" y="8"/>
                    </a:lnTo>
                    <a:lnTo>
                      <a:pt x="123" y="7"/>
                    </a:lnTo>
                    <a:lnTo>
                      <a:pt x="132" y="6"/>
                    </a:lnTo>
                    <a:lnTo>
                      <a:pt x="141" y="3"/>
                    </a:lnTo>
                    <a:lnTo>
                      <a:pt x="150" y="9"/>
                    </a:lnTo>
                    <a:lnTo>
                      <a:pt x="158" y="14"/>
                    </a:lnTo>
                    <a:lnTo>
                      <a:pt x="167" y="24"/>
                    </a:lnTo>
                    <a:lnTo>
                      <a:pt x="176" y="26"/>
                    </a:lnTo>
                    <a:lnTo>
                      <a:pt x="185" y="26"/>
                    </a:lnTo>
                    <a:lnTo>
                      <a:pt x="194" y="30"/>
                    </a:lnTo>
                    <a:lnTo>
                      <a:pt x="202" y="25"/>
                    </a:lnTo>
                    <a:lnTo>
                      <a:pt x="211" y="28"/>
                    </a:lnTo>
                    <a:lnTo>
                      <a:pt x="220" y="32"/>
                    </a:lnTo>
                    <a:lnTo>
                      <a:pt x="229" y="30"/>
                    </a:lnTo>
                    <a:lnTo>
                      <a:pt x="237" y="33"/>
                    </a:lnTo>
                    <a:lnTo>
                      <a:pt x="246" y="25"/>
                    </a:lnTo>
                    <a:lnTo>
                      <a:pt x="255" y="26"/>
                    </a:lnTo>
                    <a:lnTo>
                      <a:pt x="264" y="25"/>
                    </a:lnTo>
                    <a:lnTo>
                      <a:pt x="273" y="22"/>
                    </a:lnTo>
                    <a:lnTo>
                      <a:pt x="281" y="28"/>
                    </a:lnTo>
                    <a:lnTo>
                      <a:pt x="290" y="31"/>
                    </a:lnTo>
                    <a:lnTo>
                      <a:pt x="299" y="33"/>
                    </a:lnTo>
                    <a:lnTo>
                      <a:pt x="308" y="37"/>
                    </a:lnTo>
                    <a:lnTo>
                      <a:pt x="316" y="39"/>
                    </a:lnTo>
                    <a:lnTo>
                      <a:pt x="325" y="40"/>
                    </a:lnTo>
                    <a:lnTo>
                      <a:pt x="334" y="34"/>
                    </a:lnTo>
                    <a:lnTo>
                      <a:pt x="343" y="32"/>
                    </a:lnTo>
                    <a:lnTo>
                      <a:pt x="352" y="30"/>
                    </a:lnTo>
                    <a:lnTo>
                      <a:pt x="360" y="26"/>
                    </a:lnTo>
                    <a:lnTo>
                      <a:pt x="369" y="28"/>
                    </a:lnTo>
                    <a:lnTo>
                      <a:pt x="378" y="24"/>
                    </a:lnTo>
                    <a:lnTo>
                      <a:pt x="387" y="19"/>
                    </a:lnTo>
                    <a:lnTo>
                      <a:pt x="395" y="17"/>
                    </a:lnTo>
                    <a:lnTo>
                      <a:pt x="404" y="14"/>
                    </a:lnTo>
                    <a:lnTo>
                      <a:pt x="413" y="11"/>
                    </a:lnTo>
                    <a:lnTo>
                      <a:pt x="422" y="15"/>
                    </a:lnTo>
                    <a:lnTo>
                      <a:pt x="431" y="14"/>
                    </a:lnTo>
                  </a:path>
                </a:pathLst>
              </a:custGeom>
              <a:noFill/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156280" y="3129120"/>
                <a:ext cx="4896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22936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5300640" y="322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5373720" y="319104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5445000" y="3146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5510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558180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565308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5726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5789520" y="3083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586260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59342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006960" y="3102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07860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141960" y="3092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21504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286680" y="3092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6359400" y="3083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6423120" y="305604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649620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6567480" y="3083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664056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6711840" y="3092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6775560" y="3048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684864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6919920" y="304812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6993000" y="2976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33"/>
                    </a:lnTo>
                    <a:lnTo>
                      <a:pt x="0" y="3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056360" y="2940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129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201080" y="2778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7273800" y="2778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7345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7408800" y="2903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748188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7553160" y="292248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7626240" y="289548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7689960" y="284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7763040" y="2814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7834320" y="2741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7905600" y="270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7978680" y="268776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8042400" y="263376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8115480" y="26258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8186760" y="2579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8259840" y="2498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8323200" y="245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8396280" y="2417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8467560" y="240048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8539200" y="243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8612280" y="240048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14836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H="1" flipV="1">
                <a:off x="515628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180040" y="314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515628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5180040" y="3119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221440" y="313704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H="1" flipV="1">
                <a:off x="522936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25312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H="1">
                <a:off x="522936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V="1">
                <a:off x="525312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292720" y="3038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H="1" flipV="1">
                <a:off x="5300640" y="3047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324400" y="3075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H="1">
                <a:off x="5300640" y="3075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5324400" y="304776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365800" y="3075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H="1" flipV="1">
                <a:off x="537372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39748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H="1">
                <a:off x="537372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V="1">
                <a:off x="539748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437080" y="3075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H="1" flipV="1">
                <a:off x="544500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468760" y="311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H="1">
                <a:off x="544500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5468760" y="3082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550080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H="1" flipV="1">
                <a:off x="551016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553392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H="1">
                <a:off x="551016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553392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573880" y="315612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H="1" flipV="1">
                <a:off x="558180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560556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H="1">
                <a:off x="558180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560556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56451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H="1" flipV="1">
                <a:off x="5652720" y="3190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56786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H="1">
                <a:off x="565272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56786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5718240" y="3164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H="1" flipV="1">
                <a:off x="5726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574992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H="1">
                <a:off x="5726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574992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5781600" y="315612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H="1" flipV="1">
                <a:off x="578952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813280" y="3191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H="1">
                <a:off x="578952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V="1">
                <a:off x="5813280" y="3163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5854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H="1" flipV="1">
                <a:off x="5862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5886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flipH="1">
                <a:off x="5862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V="1">
                <a:off x="5886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59259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flipH="1" flipV="1">
                <a:off x="59342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59580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 flipH="1">
                <a:off x="59342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 flipV="1">
                <a:off x="59580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5999040" y="3209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 flipH="1" flipV="1">
                <a:off x="6006600" y="3218040"/>
                <a:ext cx="2412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603108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 flipH="1">
                <a:off x="6006600" y="3244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V="1">
                <a:off x="603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6070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flipH="1" flipV="1">
                <a:off x="6078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6102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 flipH="1">
                <a:off x="6078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V="1">
                <a:off x="6102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134040" y="3209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H="1" flipV="1">
                <a:off x="614160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16752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H="1">
                <a:off x="6141600" y="3244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V="1">
                <a:off x="61675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620712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 flipH="1" flipV="1">
                <a:off x="62150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62388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 flipH="1">
                <a:off x="62150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V="1">
                <a:off x="62388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627840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 flipH="1" flipV="1">
                <a:off x="6286680" y="3227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631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 flipH="1">
                <a:off x="6286680" y="3254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V="1">
                <a:off x="631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635148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21" name=""/>
            <p:cNvGrpSpPr/>
            <p:nvPr/>
          </p:nvGrpSpPr>
          <p:grpSpPr>
            <a:xfrm>
              <a:off x="5156280" y="2895480"/>
              <a:ext cx="3519360" cy="430200"/>
              <a:chOff x="5156280" y="2895480"/>
              <a:chExt cx="3519360" cy="430200"/>
            </a:xfrm>
          </p:grpSpPr>
          <p:sp>
            <p:nvSpPr>
              <p:cNvPr id="2622" name=""/>
              <p:cNvSpPr/>
              <p:nvPr/>
            </p:nvSpPr>
            <p:spPr>
              <a:xfrm flipH="1" flipV="1">
                <a:off x="63594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383160" y="3227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H="1">
                <a:off x="63594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V="1">
                <a:off x="6383160" y="320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415200" y="3191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H="1" flipV="1">
                <a:off x="64231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446880" y="3227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H="1">
                <a:off x="64231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V="1">
                <a:off x="6446880" y="3200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4882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H="1" flipV="1">
                <a:off x="64962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5199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H="1">
                <a:off x="6496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65199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55956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H="1" flipV="1">
                <a:off x="656748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59124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H="1">
                <a:off x="656748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V="1">
                <a:off x="659124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63264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H="1" flipV="1">
                <a:off x="66405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6643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H="1">
                <a:off x="66405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V="1">
                <a:off x="666432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7039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H="1" flipV="1">
                <a:off x="67118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7356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H="1">
                <a:off x="67118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flipV="1">
                <a:off x="67356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767640" y="323676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H="1" flipV="1">
                <a:off x="6775560" y="32443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80076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H="1">
                <a:off x="6775560" y="327168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V="1">
                <a:off x="680076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840360" y="3236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H="1" flipV="1">
                <a:off x="684864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687240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H="1">
                <a:off x="684864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flipV="1">
                <a:off x="687240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6912000" y="324468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H="1" flipV="1">
                <a:off x="691992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6943680" y="3281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H="1">
                <a:off x="691992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6943680" y="3254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6985080" y="324468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H="1" flipV="1">
                <a:off x="699300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01676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H="1">
                <a:off x="699300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V="1">
                <a:off x="701676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048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H="1" flipV="1">
                <a:off x="705636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08012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H="1">
                <a:off x="705636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V="1">
                <a:off x="708012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121520" y="3209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H="1" flipV="1">
                <a:off x="71294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15320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H="1">
                <a:off x="712944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 flipV="1">
                <a:off x="7153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192800" y="3182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 flipH="1" flipV="1">
                <a:off x="720108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2248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H="1">
                <a:off x="720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V="1">
                <a:off x="72248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264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H="1" flipV="1">
                <a:off x="727380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29756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H="1">
                <a:off x="727380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V="1">
                <a:off x="729756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337520" y="3191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 flipH="1" flipV="1">
                <a:off x="73454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3692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H="1">
                <a:off x="73454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V="1">
                <a:off x="73692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40088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 flipH="1" flipV="1">
                <a:off x="7408440" y="3227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43436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 flipH="1">
                <a:off x="7408440" y="3254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V="1">
                <a:off x="743436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473960" y="3218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 flipH="1" flipV="1">
                <a:off x="748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50564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 flipH="1">
                <a:off x="748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 flipV="1">
                <a:off x="750564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545240" y="3227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flipH="1" flipV="1">
                <a:off x="7552800" y="3236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577280" y="326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flipH="1">
                <a:off x="7552800" y="326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 flipV="1">
                <a:off x="7577280" y="323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6183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 flipH="1" flipV="1">
                <a:off x="76262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6500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>
                <a:off x="76262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V="1">
                <a:off x="76500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682040" y="3191040"/>
                <a:ext cx="7272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 flipH="1" flipV="1">
                <a:off x="768996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7137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 flipH="1">
                <a:off x="768996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77137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75476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H="1" flipV="1">
                <a:off x="77630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7868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 flipH="1">
                <a:off x="77630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 flipV="1">
                <a:off x="77868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826400" y="320040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 flipH="1" flipV="1">
                <a:off x="783432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785808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H="1">
                <a:off x="783432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 flipV="1">
                <a:off x="785808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789768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H="1" flipV="1">
                <a:off x="7905240" y="3173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7931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 flipH="1">
                <a:off x="7905240" y="3200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 flipV="1">
                <a:off x="7931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970760" y="313704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 flipH="1" flipV="1">
                <a:off x="797868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8002440" y="3173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H="1">
                <a:off x="797868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V="1">
                <a:off x="8002440" y="3146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8034480" y="3065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H="1" flipV="1">
                <a:off x="8042400" y="3074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8066160" y="3102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>
                <a:off x="8042400" y="3102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V="1">
                <a:off x="8066160" y="3074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8107200" y="2984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 flipH="1" flipV="1">
                <a:off x="811548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813924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H="1">
                <a:off x="811548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813924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8178840" y="2940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H="1" flipV="1">
                <a:off x="81867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8210520" y="2976480"/>
                <a:ext cx="255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H="1">
                <a:off x="81867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 flipV="1">
                <a:off x="8210520" y="2949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8251920" y="2949480"/>
                <a:ext cx="7128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H="1" flipV="1">
                <a:off x="825984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828360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H="1">
                <a:off x="825984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flipV="1">
                <a:off x="828360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8315280" y="294012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 flipH="1" flipV="1">
                <a:off x="832320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83469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H="1">
                <a:off x="832320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83469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386920" y="2930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 flipV="1">
                <a:off x="83962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842004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 flipH="1">
                <a:off x="83962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 flipV="1">
                <a:off x="842004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8459640" y="293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 flipH="1" flipV="1">
                <a:off x="8467200" y="2939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84916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flipH="1">
                <a:off x="8467200" y="2967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 flipV="1">
                <a:off x="84916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8531280" y="2984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 flipH="1" flipV="1">
                <a:off x="8539200" y="299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8564400" y="3021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 flipH="1">
                <a:off x="8539200" y="3021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 flipV="1">
                <a:off x="8564400" y="299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8604360" y="2967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 flipH="1" flipV="1">
                <a:off x="861228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863604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 flipH="1">
                <a:off x="861228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 flipV="1">
                <a:off x="863604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5156280" y="3102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522936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5300640" y="3038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537372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5445000" y="3011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5510160" y="299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558180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5653080" y="3002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5726160" y="3002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578952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586260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593424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006960" y="2949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6078600" y="2967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614196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21504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286680" y="292248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6359400" y="2976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6"/>
                    </a:lnTo>
                    <a:lnTo>
                      <a:pt x="15" y="33"/>
                    </a:lnTo>
                    <a:lnTo>
                      <a:pt x="0" y="1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6423120" y="3021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6496200" y="3110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65674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664056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6711840" y="3164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6775560" y="3119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684864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6919920" y="3182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6993000" y="3164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7056360" y="319104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7129440" y="311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72010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7273800" y="3119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73454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7408800" y="3146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7481880" y="3173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755316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7626240" y="3227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22" name=""/>
            <p:cNvSpPr/>
            <p:nvPr/>
          </p:nvSpPr>
          <p:spPr>
            <a:xfrm>
              <a:off x="7689960" y="324468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7763040" y="3254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7834320" y="3200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7905600" y="318276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978680" y="3164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8042400" y="3129120"/>
              <a:ext cx="48960" cy="53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8115480" y="3146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8186760" y="3110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8259840" y="3065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8323200" y="3048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8396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8467560" y="299412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8539200" y="302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8612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5778720" y="1916280"/>
              <a:ext cx="1934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dice de Apertura Económic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5032440" y="356868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978800" y="3371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978800" y="317340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2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978800" y="2976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3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978800" y="2787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4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978800" y="258912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978800" y="2390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978800" y="219384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7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 rot="18900000">
              <a:off x="4943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rot="18900000">
              <a:off x="5159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 rot="18900000">
              <a:off x="53686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 rot="18900000">
              <a:off x="55767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 rot="18900000">
              <a:off x="579240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 rot="18900000">
              <a:off x="60004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 rot="18900000">
              <a:off x="6210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 rot="18900000">
              <a:off x="6426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 rot="18900000">
              <a:off x="66340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 rot="18900000">
              <a:off x="68436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8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 rot="18900000">
              <a:off x="705924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 rot="18900000">
              <a:off x="72673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 rot="18900000">
              <a:off x="7476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 rot="18900000">
              <a:off x="7692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 rot="18900000">
              <a:off x="79009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 rot="18900000">
              <a:off x="81104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 rot="18900000">
              <a:off x="832608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846760" y="4226040"/>
              <a:ext cx="216000" cy="144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5925960" y="419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34"/>
                  </a:lnTo>
                  <a:lnTo>
                    <a:pt x="0" y="3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cc00"/>
            </a:solidFill>
            <a:ln w="79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6097680" y="416232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6575400" y="4226040"/>
              <a:ext cx="217440" cy="144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6648480" y="4189320"/>
              <a:ext cx="7128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 flipH="1" flipV="1">
              <a:off x="665640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668016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 flipH="1">
              <a:off x="665640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 flipV="1">
              <a:off x="668016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6831360" y="416232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574040" y="4226040"/>
              <a:ext cx="216000" cy="1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7653240" y="4199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7818480" y="416232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5" name=""/>
          <p:cNvGrpSpPr/>
          <p:nvPr/>
        </p:nvGrpSpPr>
        <p:grpSpPr>
          <a:xfrm>
            <a:off x="943920" y="3773520"/>
            <a:ext cx="3676680" cy="2413080"/>
            <a:chOff x="943920" y="3773520"/>
            <a:chExt cx="3676680" cy="2413080"/>
          </a:xfrm>
        </p:grpSpPr>
        <p:grpSp>
          <p:nvGrpSpPr>
            <p:cNvPr id="2876" name=""/>
            <p:cNvGrpSpPr/>
            <p:nvPr/>
          </p:nvGrpSpPr>
          <p:grpSpPr>
            <a:xfrm>
              <a:off x="1298520" y="4365720"/>
              <a:ext cx="3287880" cy="1122120"/>
              <a:chOff x="1298520" y="4365720"/>
              <a:chExt cx="3287880" cy="1122120"/>
            </a:xfrm>
          </p:grpSpPr>
          <p:sp>
            <p:nvSpPr>
              <p:cNvPr id="2877" name=""/>
              <p:cNvSpPr/>
              <p:nvPr/>
            </p:nvSpPr>
            <p:spPr>
              <a:xfrm>
                <a:off x="1335240" y="4365720"/>
                <a:ext cx="1440" cy="10825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1298520" y="54482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1298520" y="529416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1298520" y="51386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1298520" y="498312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1298520" y="483084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1298520" y="46753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1298520" y="45194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1298520" y="43657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1335240" y="5448240"/>
                <a:ext cx="324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V="1">
                <a:off x="1335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V="1">
                <a:off x="1397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V="1">
                <a:off x="1459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V="1">
                <a:off x="1522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V="1">
                <a:off x="1584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V="1">
                <a:off x="1646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V="1">
                <a:off x="1709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V="1">
                <a:off x="1771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V="1">
                <a:off x="1835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V="1">
                <a:off x="1897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V="1">
                <a:off x="1959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V="1">
                <a:off x="2021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V="1">
                <a:off x="20858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V="1">
                <a:off x="2147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V="1">
                <a:off x="2209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V="1">
                <a:off x="2271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V="1">
                <a:off x="2333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V="1">
                <a:off x="2397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V="1">
                <a:off x="2459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V="1">
                <a:off x="25225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V="1">
                <a:off x="2584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flipV="1">
                <a:off x="2646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V="1">
                <a:off x="27097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V="1">
                <a:off x="2771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V="1">
                <a:off x="2833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V="1">
                <a:off x="2897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V="1">
                <a:off x="2960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3022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V="1">
                <a:off x="30844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V="1">
                <a:off x="3146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V="1">
                <a:off x="3208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V="1">
                <a:off x="32734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V="1">
                <a:off x="3335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V="1">
                <a:off x="3397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V="1">
                <a:off x="3459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V="1">
                <a:off x="3521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V="1">
                <a:off x="3584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flipV="1">
                <a:off x="36464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V="1">
                <a:off x="3710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flipV="1">
                <a:off x="3772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V="1">
                <a:off x="3833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3897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V="1">
                <a:off x="3959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V="1">
                <a:off x="4021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V="1">
                <a:off x="4084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V="1">
                <a:off x="4148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 flipV="1">
                <a:off x="4210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flipV="1">
                <a:off x="4272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 flipV="1">
                <a:off x="4334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V="1">
                <a:off x="43959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4460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V="1">
                <a:off x="4522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4584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V="1">
                <a:off x="1365120" y="5132520"/>
                <a:ext cx="6192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1427040" y="5127480"/>
                <a:ext cx="6516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flipV="1">
                <a:off x="1492200" y="511164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1554120" y="511164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 flipV="1">
                <a:off x="1616040" y="511668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1677960" y="5116680"/>
                <a:ext cx="61920" cy="6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V="1">
                <a:off x="1739880" y="512136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flipV="1">
                <a:off x="1803240" y="511488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flipV="1">
                <a:off x="1865160" y="5095440"/>
                <a:ext cx="637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V="1">
                <a:off x="1928880" y="508788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V="1">
                <a:off x="1990800" y="507996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 flipV="1">
                <a:off x="2052720" y="5070600"/>
                <a:ext cx="6336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 flipV="1">
                <a:off x="2116080" y="5059080"/>
                <a:ext cx="61920" cy="11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 flipV="1">
                <a:off x="2178000" y="5057280"/>
                <a:ext cx="61920" cy="18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2239920" y="5057640"/>
                <a:ext cx="637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V="1">
                <a:off x="2303640" y="5035320"/>
                <a:ext cx="615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V="1">
                <a:off x="2365200" y="5027760"/>
                <a:ext cx="637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V="1">
                <a:off x="2428920" y="5022720"/>
                <a:ext cx="619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V="1">
                <a:off x="2490840" y="5017680"/>
                <a:ext cx="61920" cy="4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V="1">
                <a:off x="2552760" y="5014440"/>
                <a:ext cx="61920" cy="3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flipV="1">
                <a:off x="2614680" y="4986000"/>
                <a:ext cx="65160" cy="28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2679840" y="4986360"/>
                <a:ext cx="61920" cy="126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2741760" y="4998960"/>
                <a:ext cx="61920" cy="30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2803680" y="502920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2865600" y="5029200"/>
                <a:ext cx="61920" cy="58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V="1">
                <a:off x="2927520" y="5079960"/>
                <a:ext cx="633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V="1">
                <a:off x="2990880" y="505260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V="1">
                <a:off x="3052800" y="5029200"/>
                <a:ext cx="6336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V="1">
                <a:off x="3116160" y="50032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3178080" y="497628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V="1">
                <a:off x="3240000" y="4957920"/>
                <a:ext cx="63720" cy="187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3303720" y="4957920"/>
                <a:ext cx="61920" cy="68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3365640" y="502596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3427560" y="5025960"/>
                <a:ext cx="6336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V="1">
                <a:off x="3490920" y="502452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V="1">
                <a:off x="3554280" y="500868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V="1">
                <a:off x="3616200" y="4989240"/>
                <a:ext cx="619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V="1">
                <a:off x="3678120" y="49636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 flipV="1">
                <a:off x="3740040" y="4871880"/>
                <a:ext cx="61920" cy="92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V="1">
                <a:off x="3801960" y="4863960"/>
                <a:ext cx="651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V="1">
                <a:off x="3867120" y="4832280"/>
                <a:ext cx="61920" cy="31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 flipV="1">
                <a:off x="3929040" y="4774680"/>
                <a:ext cx="61920" cy="57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V="1">
                <a:off x="3990960" y="4741920"/>
                <a:ext cx="61920" cy="33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 flipV="1">
                <a:off x="4052880" y="4718160"/>
                <a:ext cx="6192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4114800" y="4664160"/>
                <a:ext cx="63360" cy="54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V="1">
                <a:off x="4178160" y="4622400"/>
                <a:ext cx="63720" cy="414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V="1">
                <a:off x="4241880" y="4578120"/>
                <a:ext cx="61920" cy="442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 flipV="1">
                <a:off x="4303800" y="456048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4365720" y="456084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4427640" y="4551120"/>
                <a:ext cx="633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4491000" y="4538520"/>
                <a:ext cx="61920" cy="129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1365120" y="530388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1427040" y="5298840"/>
                <a:ext cx="651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 flipV="1">
                <a:off x="1492200" y="529416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1554120" y="528768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V="1">
                <a:off x="1616040" y="5285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1677960" y="52848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1739880" y="5284800"/>
                <a:ext cx="6336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1803240" y="52862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V="1">
                <a:off x="1865160" y="52812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V="1">
                <a:off x="1928880" y="528012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 flipV="1">
                <a:off x="1990800" y="5276520"/>
                <a:ext cx="6192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V="1">
                <a:off x="2052720" y="5270400"/>
                <a:ext cx="6336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2116080" y="52704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V="1">
                <a:off x="2178000" y="526536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flipV="1">
                <a:off x="2239920" y="526428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 flipV="1">
                <a:off x="2303640" y="5260680"/>
                <a:ext cx="615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2365200" y="52560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 flipV="1">
                <a:off x="2428920" y="525132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V="1">
                <a:off x="2490840" y="524484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 flipV="1">
                <a:off x="2552760" y="523512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 flipV="1">
                <a:off x="2614680" y="5229000"/>
                <a:ext cx="6516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 flipV="1">
                <a:off x="2679840" y="521784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 flipV="1">
                <a:off x="2741760" y="520668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V="1">
                <a:off x="2803680" y="520056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2865600" y="520056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 flipV="1">
                <a:off x="2927520" y="519552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V="1">
                <a:off x="2990880" y="5189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3052800" y="5175000"/>
                <a:ext cx="6336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V="1">
                <a:off x="3116160" y="516888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V="1">
                <a:off x="3178080" y="51638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240000" y="516420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3303720" y="51642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3365640" y="51656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3427560" y="5162400"/>
                <a:ext cx="6336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 flipV="1">
                <a:off x="3490920" y="515736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 flipV="1">
                <a:off x="3554280" y="5143320"/>
                <a:ext cx="6192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V="1">
                <a:off x="3616200" y="513360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 flipV="1">
                <a:off x="3678120" y="512604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 flipV="1">
                <a:off x="3740040" y="511812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 flipV="1">
                <a:off x="3801960" y="5114520"/>
                <a:ext cx="651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3867120" y="5114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V="1">
                <a:off x="3929040" y="5108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flipV="1">
                <a:off x="3990960" y="510192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V="1">
                <a:off x="4052880" y="5087880"/>
                <a:ext cx="61920" cy="144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4114800" y="5076360"/>
                <a:ext cx="6336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4178160" y="5076720"/>
                <a:ext cx="637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4241880" y="507168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4303800" y="50720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4365720" y="5076720"/>
                <a:ext cx="61920" cy="190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4427640" y="5095800"/>
                <a:ext cx="6336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4491000" y="50958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V="1">
                <a:off x="1365120" y="5200200"/>
                <a:ext cx="61920" cy="111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V="1">
                <a:off x="1427040" y="5194080"/>
                <a:ext cx="651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V="1">
                <a:off x="1492200" y="51879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1554120" y="518004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V="1">
                <a:off x="1616040" y="51750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flipV="1">
                <a:off x="1677960" y="5171760"/>
                <a:ext cx="6192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V="1">
                <a:off x="1739880" y="5164200"/>
                <a:ext cx="6336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1803240" y="51642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flipV="1">
                <a:off x="1865160" y="5163840"/>
                <a:ext cx="637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V="1">
                <a:off x="1928880" y="5141880"/>
                <a:ext cx="61920" cy="223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 flipV="1">
                <a:off x="1990800" y="513252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 flipV="1">
                <a:off x="2052720" y="5114520"/>
                <a:ext cx="63360" cy="176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 flipV="1">
                <a:off x="2116080" y="510984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 flipV="1">
                <a:off x="2178000" y="510012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V="1">
                <a:off x="2239920" y="5094000"/>
                <a:ext cx="6372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 flipV="1">
                <a:off x="2303640" y="5084280"/>
                <a:ext cx="6156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 flipV="1">
                <a:off x="2365200" y="5083200"/>
                <a:ext cx="637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2428920" y="508320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V="1">
                <a:off x="2490840" y="508752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2552760" y="50799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V="1">
                <a:off x="2614680" y="5074920"/>
                <a:ext cx="6516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2679840" y="507528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 flipV="1">
                <a:off x="2741760" y="50673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 flipV="1">
                <a:off x="2803680" y="5041440"/>
                <a:ext cx="61920" cy="255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 flipV="1">
                <a:off x="2865600" y="504036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2927520" y="5040360"/>
                <a:ext cx="6336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2990880" y="504360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3052800" y="50515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 flipV="1">
                <a:off x="3116160" y="5044680"/>
                <a:ext cx="61920" cy="1260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 flipV="1">
                <a:off x="3178080" y="50385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V="1">
                <a:off x="3240000" y="5030640"/>
                <a:ext cx="637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3303720" y="503064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3365640" y="5040360"/>
                <a:ext cx="61920" cy="55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 flipV="1">
                <a:off x="3427560" y="50893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3490920" y="5089680"/>
                <a:ext cx="6336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77" name=""/>
            <p:cNvSpPr/>
            <p:nvPr/>
          </p:nvSpPr>
          <p:spPr>
            <a:xfrm flipV="1">
              <a:off x="3554280" y="506736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V="1">
              <a:off x="3616200" y="504504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3678120" y="5045040"/>
              <a:ext cx="61920" cy="428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3740040" y="5087880"/>
              <a:ext cx="61920" cy="475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3801960" y="5135400"/>
              <a:ext cx="651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 flipV="1">
              <a:off x="3867120" y="51562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3929040" y="5156280"/>
              <a:ext cx="61920" cy="61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 flipV="1">
              <a:off x="3990960" y="5154480"/>
              <a:ext cx="61920" cy="79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 flipV="1">
              <a:off x="4052880" y="5122800"/>
              <a:ext cx="61920" cy="31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 flipV="1">
              <a:off x="4114800" y="5100480"/>
              <a:ext cx="633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 flipV="1">
              <a:off x="4178160" y="5099040"/>
              <a:ext cx="637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 flipV="1">
              <a:off x="4241880" y="5079600"/>
              <a:ext cx="61920" cy="190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4303800" y="5079960"/>
              <a:ext cx="61920" cy="97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4365720" y="50896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 flipV="1">
              <a:off x="4427640" y="5086080"/>
              <a:ext cx="6336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4491000" y="5086440"/>
              <a:ext cx="6192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2538720" y="3773520"/>
              <a:ext cx="91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PBI per cápita</a:t>
              </a: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1798200" y="3927600"/>
              <a:ext cx="233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(en dólares a precios constantes de 1995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1177920" y="53722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943920" y="52164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943920" y="5060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943920" y="49068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943920" y="47530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943920" y="4597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943920" y="4443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943920" y="4287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 rot="16200000">
              <a:off x="12297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 rot="16200000">
              <a:off x="14169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 rot="16200000">
              <a:off x="16041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 rot="16200000">
              <a:off x="17917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 rot="16200000">
              <a:off x="198360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 rot="16200000">
              <a:off x="2169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 rot="16200000">
              <a:off x="2358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 rot="16200000">
              <a:off x="25455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 rot="16200000">
              <a:off x="27331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 rot="16200000">
              <a:off x="29203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 rot="16200000">
              <a:off x="3107520" y="56332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 rot="16200000">
              <a:off x="32950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 rot="16200000">
              <a:off x="348372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 rot="16200000">
              <a:off x="3669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 rot="16200000">
              <a:off x="3858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 rot="16200000">
              <a:off x="40456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 rot="16200000">
              <a:off x="4231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 rot="16200000">
              <a:off x="4420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1346040" y="6100920"/>
              <a:ext cx="276480" cy="14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1660680" y="603396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2386080" y="6100920"/>
              <a:ext cx="276120" cy="144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2705400" y="603396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3666960" y="6100920"/>
              <a:ext cx="27648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3975120" y="603396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7" name=""/>
          <p:cNvSpPr/>
          <p:nvPr/>
        </p:nvSpPr>
        <p:spPr>
          <a:xfrm>
            <a:off x="5105520" y="4495680"/>
            <a:ext cx="2590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1" name=""/>
          <p:cNvSpPr/>
          <p:nvPr/>
        </p:nvSpPr>
        <p:spPr>
          <a:xfrm>
            <a:off x="1763640" y="1603440"/>
            <a:ext cx="54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Índice de apertura comercial del Perú y otros países, 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exportaciones e importaciones en porcentaje del PB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2" name=""/>
          <p:cNvSpPr/>
          <p:nvPr/>
        </p:nvSpPr>
        <p:spPr>
          <a:xfrm>
            <a:off x="1827000" y="6508800"/>
            <a:ext cx="316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s: FMI, World Development Indicators 2003, BCRP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3" name=""/>
          <p:cNvGrpSpPr/>
          <p:nvPr/>
        </p:nvGrpSpPr>
        <p:grpSpPr>
          <a:xfrm>
            <a:off x="1839240" y="2622960"/>
            <a:ext cx="4937400" cy="3568320"/>
            <a:chOff x="1839240" y="2622960"/>
            <a:chExt cx="4937400" cy="3568320"/>
          </a:xfrm>
        </p:grpSpPr>
        <p:sp>
          <p:nvSpPr>
            <p:cNvPr id="3134" name=""/>
            <p:cNvSpPr/>
            <p:nvPr/>
          </p:nvSpPr>
          <p:spPr>
            <a:xfrm>
              <a:off x="2937240" y="5720040"/>
              <a:ext cx="55368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937240" y="5540400"/>
              <a:ext cx="5770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937240" y="5360400"/>
              <a:ext cx="743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937240" y="5179320"/>
              <a:ext cx="820800" cy="131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937240" y="4999320"/>
              <a:ext cx="9313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937240" y="4820040"/>
              <a:ext cx="95256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937240" y="4640400"/>
              <a:ext cx="10202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937240" y="4458960"/>
              <a:ext cx="1197000" cy="1332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937240" y="4279320"/>
              <a:ext cx="12085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2937240" y="4099680"/>
              <a:ext cx="1241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2937240" y="3920040"/>
              <a:ext cx="1274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2937240" y="3740040"/>
              <a:ext cx="142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2937240" y="3558960"/>
              <a:ext cx="1485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2937240" y="3379320"/>
              <a:ext cx="15397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2937240" y="3199680"/>
              <a:ext cx="1584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2937240" y="3020040"/>
              <a:ext cx="1673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937240" y="2838600"/>
              <a:ext cx="223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937240" y="2659320"/>
              <a:ext cx="345672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937240" y="5876280"/>
              <a:ext cx="36349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V="1">
              <a:off x="293724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 flipV="1">
              <a:off x="354744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 flipV="1">
              <a:off x="41457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 flipV="1">
              <a:off x="47541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 flipV="1">
              <a:off x="536400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 flipV="1">
              <a:off x="59623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 flipV="1">
              <a:off x="65725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937240" y="2635920"/>
              <a:ext cx="1800" cy="3240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892960" y="587628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892960" y="56970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892960" y="55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892960" y="53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892960" y="515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892960" y="49766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892960" y="47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892960" y="46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892960" y="443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2892960" y="425628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2892960" y="407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2892960" y="38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2892960" y="371556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2892960" y="35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2892960" y="335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2892960" y="317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2892960" y="29952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2892960" y="281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2892960" y="26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3934440" y="47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3999240" y="46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3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4177800" y="44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4190040" y="4256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4222080" y="407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4255200" y="38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4410000" y="37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7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4465800" y="35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4520520" y="335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0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4565160" y="317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4654080" y="29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5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5220360" y="281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73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6438240" y="2635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1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3900600" y="4963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0.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3768120" y="5167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6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3689640" y="53474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4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3547080" y="55288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3567600" y="56970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836800" y="60084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34124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40100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4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46198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6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52282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8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57816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63918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1981800" y="568368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439720" y="550404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471040" y="532440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528640" y="51447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u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238480" y="496332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306160" y="47836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217960" y="460404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415960" y="4424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1839240" y="4242960"/>
              <a:ext cx="108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Kingdo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1929960" y="406332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2472840" y="38836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2305800" y="370404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2472120" y="352260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2228400" y="334332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2372040" y="316332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2516040" y="298368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2149560" y="280224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2393640" y="262296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3417840"/>
            <a:ext cx="4680" cy="463680"/>
          </a:xfrm>
          <a:prstGeom prst="rect">
            <a:avLst/>
          </a:prstGeom>
          <a:solidFill>
            <a:srgbClr val="9a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59760" y="3425760"/>
            <a:ext cx="4680" cy="463680"/>
          </a:xfrm>
          <a:prstGeom prst="rect">
            <a:avLst/>
          </a:prstGeom>
          <a:solidFill>
            <a:srgbClr val="f8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04280" y="3776760"/>
            <a:ext cx="2880" cy="1231920"/>
          </a:xfrm>
          <a:prstGeom prst="rect">
            <a:avLst/>
          </a:prstGeom>
          <a:solidFill>
            <a:srgbClr val="303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04280" y="3265560"/>
            <a:ext cx="2880" cy="511200"/>
          </a:xfrm>
          <a:prstGeom prst="rect">
            <a:avLst/>
          </a:prstGeom>
          <a:solidFill>
            <a:srgbClr val="f2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69080" y="6308640"/>
            <a:ext cx="214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p: proyecta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SUNAT. Elaboración: COMEXPERU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660680"/>
            <a:ext cx="7391520" cy="46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7076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9720" y="295596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72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55520" y="452772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2568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4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9548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4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4492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5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70280" y="490536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9336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4460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0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9548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4.2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4492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9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50480" y="528156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2568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7.6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548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492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5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3440" y="565164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2568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2.1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9548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3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4492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30120" y="617220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3416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8932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270240"/>
            <a:ext cx="77565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959440"/>
            <a:ext cx="775656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87560" y="348768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99640" y="373392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2960" y="371808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91440" y="3718080"/>
            <a:ext cx="77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6.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48720" y="3718080"/>
            <a:ext cx="93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3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900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0208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74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22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08440" y="407988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0324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848360" cy="4394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87280" y="6381720"/>
            <a:ext cx="429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BCRP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932360" y="1989000"/>
            <a:ext cx="3919680" cy="38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 ha dado de maner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buClr>
                <a:srgbClr val="ffcc00"/>
              </a:buClr>
              <a:buFont typeface="Tahom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Un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los países han ido rebajando paulatinamente sus tasas arancelar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(ii) Multilateral: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sucesivas rondas de negociación en la Organización Mundial de Comerc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(iii) B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en acuerdos de rebajas mutuas de aranceles, pactadas con otr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3440" y="1511280"/>
            <a:ext cx="6964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86400" y="5943600"/>
            <a:ext cx="1072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MEF, FMI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27960" y="2190600"/>
            <a:ext cx="4150440" cy="3387960"/>
            <a:chOff x="327960" y="2190600"/>
            <a:chExt cx="4150440" cy="3387960"/>
          </a:xfrm>
        </p:grpSpPr>
        <p:sp>
          <p:nvSpPr>
            <p:cNvPr id="185" name=""/>
            <p:cNvSpPr/>
            <p:nvPr/>
          </p:nvSpPr>
          <p:spPr>
            <a:xfrm>
              <a:off x="539640" y="2190600"/>
              <a:ext cx="393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Verdana"/>
                </a:rPr>
                <a:t>Arancel promedio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Verdana"/>
                </a:rPr>
                <a:t>(en % ad valore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20680" y="4818240"/>
              <a:ext cx="2487600" cy="28224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20680" y="3548160"/>
              <a:ext cx="790560" cy="2808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20680" y="4535640"/>
              <a:ext cx="1349640" cy="282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20680" y="3263760"/>
              <a:ext cx="550800" cy="284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20680" y="4253040"/>
              <a:ext cx="239760" cy="282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20680" y="2982960"/>
              <a:ext cx="193680" cy="280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20680" y="5313240"/>
              <a:ext cx="28209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12068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59228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0606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5322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0020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4718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94164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20680" y="2770200"/>
              <a:ext cx="1800" cy="2543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81080" y="531324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81080" y="404172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81080" y="2770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0400" y="48830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2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53360" y="3611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6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2440" y="4600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8.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13960" y="3330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1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02560" y="4317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6480" y="3046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85400" y="5425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220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90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616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318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016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71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7960" y="4602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écada 8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000" y="333072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Finales 9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55800" y="2959200"/>
              <a:ext cx="82800" cy="82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65960" y="2922480"/>
              <a:ext cx="1399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aíses Industrializad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55800" y="3162240"/>
              <a:ext cx="82800" cy="824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66320" y="3125880"/>
              <a:ext cx="1285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Sudamérica y Méxic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55800" y="3367080"/>
              <a:ext cx="82800" cy="810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67040" y="33307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900000" y="231840"/>
            <a:ext cx="7543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686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ú: mapa de foros y acuerdos comerci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80868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LC EE.UU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Unión Europ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Jap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AD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éxico: hasta fin de añ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PEC: ¿TL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ailandia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Diego Isasi</dc:creator>
  <dc:description/>
  <dc:language>en-US</dc:language>
  <cp:lastModifiedBy>jore</cp:lastModifiedBy>
  <dcterms:modified xsi:type="dcterms:W3CDTF">2004-10-15T21:05:37Z</dcterms:modified>
  <cp:revision>75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62746039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RESENTACIÓN DE LA SRA. TEULLET EN LA CONF.DE TRABAJADORES DEL PERÚ</vt:lpwstr>
  </property>
  <property fmtid="{D5CDD505-2E9C-101B-9397-08002B2CF9AE}" pid="6" name="_PreviousAdHocReviewCycleID">
    <vt:r8>1014498446</vt:r8>
  </property>
  <property fmtid="{D5CDD505-2E9C-101B-9397-08002B2CF9AE}" pid="7" name="_ReviewingToolsShownOnce">
    <vt:lpwstr/>
  </property>
</Properties>
</file>